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7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76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7.wmf" ContentType="image/x-wmf"/>
  <Override PartName="/ppt/media/image13.jpeg" ContentType="image/jpe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wmf" ContentType="image/x-wmf"/>
  <Override PartName="/ppt/media/image79.png" ContentType="image/png"/>
  <Override PartName="/ppt/media/image34.wmf" ContentType="image/x-wmf"/>
  <Override PartName="/ppt/media/image30.wmf" ContentType="image/x-wmf"/>
  <Override PartName="/ppt/media/image7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39.png" ContentType="image/png"/>
  <Override PartName="/ppt/media/image9.png" ContentType="image/png"/>
  <Override PartName="/ppt/media/image21.png" ContentType="image/png"/>
  <Override PartName="/ppt/media/image58.png" ContentType="image/png"/>
  <Override PartName="/ppt/media/image63.png" ContentType="image/png"/>
  <Override PartName="/ppt/media/image24.wmf" ContentType="image/x-wmf"/>
  <Override PartName="/ppt/media/image67.png" ContentType="image/png"/>
  <Override PartName="/ppt/media/image27.wmf" ContentType="image/x-wmf"/>
  <Override PartName="/ppt/media/image66.png" ContentType="image/png"/>
  <Override PartName="/ppt/media/image60.png" ContentType="image/png"/>
  <Override PartName="/ppt/media/image61.png" ContentType="image/png"/>
  <Override PartName="/ppt/media/image65.wmf" ContentType="image/x-wmf"/>
  <Override PartName="/ppt/media/image56.wmf" ContentType="image/x-wmf"/>
  <Override PartName="/ppt/media/image93.wmf" ContentType="image/x-wmf"/>
  <Override PartName="/ppt/media/image92.png" ContentType="image/png"/>
  <Override PartName="/ppt/media/image88.png" ContentType="image/png"/>
  <Override PartName="/ppt/media/image87.png" ContentType="image/png"/>
  <Override PartName="/ppt/media/image89.png" ContentType="image/png"/>
  <Override PartName="/ppt/media/image74.wmf" ContentType="image/x-wmf"/>
  <Override PartName="/ppt/media/image64.png" ContentType="image/png"/>
  <Override PartName="/ppt/media/image77.jpeg" ContentType="image/jpeg"/>
  <Override PartName="/ppt/media/image68.png" ContentType="image/png"/>
  <Override PartName="/ppt/media/image1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83.jpeg" ContentType="image/jpeg"/>
  <Override PartName="/ppt/media/image62.png" ContentType="image/png"/>
  <Override PartName="/ppt/media/image69.png" ContentType="image/png"/>
  <Override PartName="/ppt/media/image71.png" ContentType="image/png"/>
  <Override PartName="/ppt/media/image82.wmf" ContentType="image/x-wmf"/>
  <Override PartName="/ppt/media/image86.jpeg" ContentType="image/jpeg"/>
  <Override PartName="/ppt/media/image78.png" ContentType="image/png"/>
  <Override PartName="/ppt/media/image72.png" ContentType="image/png"/>
  <Override PartName="/ppt/media/image25.png" ContentType="image/png"/>
  <Override PartName="/ppt/media/image90.png" ContentType="image/png"/>
  <Override PartName="/ppt/media/image11.png" ContentType="image/png"/>
  <Override PartName="/ppt/media/image48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29.png" ContentType="image/png"/>
  <Override PartName="/ppt/media/image9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6.png" ContentType="image/png"/>
  <Override PartName="/ppt/media/image4.png" ContentType="image/png"/>
  <Override PartName="/ppt/media/image81.png" ContentType="image/png"/>
  <Override PartName="/ppt/media/image23.png" ContentType="image/png"/>
  <Override PartName="/ppt/media/image4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59.jpeg" ContentType="image/jpeg"/>
  <Override PartName="/ppt/media/image18.png" ContentType="image/png"/>
  <Override PartName="/ppt/media/image6.png" ContentType="image/png"/>
  <Override PartName="/ppt/media/image22.jpeg" ContentType="image/jpeg"/>
  <Override PartName="/ppt/media/image32.wmf" ContentType="image/x-wmf"/>
  <Override PartName="/ppt/media/image7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hyperlink" Target="file:///10Math_A2_CR09.ppt" TargetMode="External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10.png"/><Relationship Id="rId9" Type="http://schemas.openxmlformats.org/officeDocument/2006/relationships/slide" Target="slide2.xml"/><Relationship Id="rId10" Type="http://schemas.openxmlformats.org/officeDocument/2006/relationships/image" Target="../media/image12.png"/><Relationship Id="rId11" Type="http://schemas.openxmlformats.org/officeDocument/2006/relationships/image" Target="../media/image21.png"/><Relationship Id="rId12" Type="http://schemas.openxmlformats.org/officeDocument/2006/relationships/hyperlink" Target="file:///10Math_A2_CR06.ppt" TargetMode="External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09.xml"/><Relationship Id="rId17" Type="http://schemas.openxmlformats.org/officeDocument/2006/relationships/slideLayout" Target="../slideLayouts/slideLayout110.xml"/><Relationship Id="rId18" Type="http://schemas.openxmlformats.org/officeDocument/2006/relationships/slideLayout" Target="../slideLayouts/slideLayout111.xml"/><Relationship Id="rId19" Type="http://schemas.openxmlformats.org/officeDocument/2006/relationships/slideLayout" Target="../slideLayouts/slideLayout112.xml"/><Relationship Id="rId20" Type="http://schemas.openxmlformats.org/officeDocument/2006/relationships/slideLayout" Target="../slideLayouts/slideLayout113.xml"/><Relationship Id="rId21" Type="http://schemas.openxmlformats.org/officeDocument/2006/relationships/slideLayout" Target="../slideLayouts/slideLayout114.xml"/><Relationship Id="rId22" Type="http://schemas.openxmlformats.org/officeDocument/2006/relationships/slideLayout" Target="../slideLayouts/slideLayout115.xml"/><Relationship Id="rId23" Type="http://schemas.openxmlformats.org/officeDocument/2006/relationships/slideLayout" Target="../slideLayouts/slideLayout116.xml"/><Relationship Id="rId24" Type="http://schemas.openxmlformats.org/officeDocument/2006/relationships/slideLayout" Target="../slideLayouts/slideLayout117.xml"/><Relationship Id="rId25" Type="http://schemas.openxmlformats.org/officeDocument/2006/relationships/slideLayout" Target="../slideLayouts/slideLayout118.xml"/><Relationship Id="rId26" Type="http://schemas.openxmlformats.org/officeDocument/2006/relationships/slideLayout" Target="../slideLayouts/slideLayout119.xml"/><Relationship Id="rId2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" Target="slide2.xml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hyperlink" Target="file:///10Math_A2_CR09.ppt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09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hyperlink" Target="file:///10Math_A2_CR09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<Relationship Id="rId15" Type="http://schemas.openxmlformats.org/officeDocument/2006/relationships/slideLayout" Target="../slideLayouts/slideLayout38.xml"/><Relationship Id="rId16" Type="http://schemas.openxmlformats.org/officeDocument/2006/relationships/slideLayout" Target="../slideLayouts/slideLayout39.xml"/><Relationship Id="rId17" Type="http://schemas.openxmlformats.org/officeDocument/2006/relationships/slideLayout" Target="../slideLayouts/slideLayout40.xml"/><Relationship Id="rId18" Type="http://schemas.openxmlformats.org/officeDocument/2006/relationships/slideLayout" Target="../slideLayouts/slideLayout41.xml"/><Relationship Id="rId19" Type="http://schemas.openxmlformats.org/officeDocument/2006/relationships/slideLayout" Target="../slideLayouts/slideLayout42.xml"/><Relationship Id="rId20" Type="http://schemas.openxmlformats.org/officeDocument/2006/relationships/slideLayout" Target="../slideLayouts/slideLayout43.xml"/><Relationship Id="rId21" Type="http://schemas.openxmlformats.org/officeDocument/2006/relationships/slideLayout" Target="../slideLayouts/slideLayout44.xml"/><Relationship Id="rId22" Type="http://schemas.openxmlformats.org/officeDocument/2006/relationships/slideLayout" Target="../slideLayouts/slideLayout45.xml"/><Relationship Id="rId23" Type="http://schemas.openxmlformats.org/officeDocument/2006/relationships/slideLayout" Target="../slideLayouts/slideLayout46.xml"/><Relationship Id="rId24" Type="http://schemas.openxmlformats.org/officeDocument/2006/relationships/slideLayout" Target="../slideLayouts/slideLayout47.xml"/><Relationship Id="rId2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5.png"/><Relationship Id="rId10" Type="http://schemas.openxmlformats.org/officeDocument/2006/relationships/hyperlink" Target="file:///10Math_A2_CR09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09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61.xml"/><Relationship Id="rId15" Type="http://schemas.openxmlformats.org/officeDocument/2006/relationships/slideLayout" Target="../slideLayouts/slideLayout62.xml"/><Relationship Id="rId16" Type="http://schemas.openxmlformats.org/officeDocument/2006/relationships/slideLayout" Target="../slideLayouts/slideLayout63.xml"/><Relationship Id="rId17" Type="http://schemas.openxmlformats.org/officeDocument/2006/relationships/slideLayout" Target="../slideLayouts/slideLayout64.xml"/><Relationship Id="rId18" Type="http://schemas.openxmlformats.org/officeDocument/2006/relationships/slideLayout" Target="../slideLayouts/slideLayout65.xml"/><Relationship Id="rId19" Type="http://schemas.openxmlformats.org/officeDocument/2006/relationships/slideLayout" Target="../slideLayouts/slideLayout66.xml"/><Relationship Id="rId20" Type="http://schemas.openxmlformats.org/officeDocument/2006/relationships/slideLayout" Target="../slideLayouts/slideLayout67.xml"/><Relationship Id="rId21" Type="http://schemas.openxmlformats.org/officeDocument/2006/relationships/slideLayout" Target="../slideLayouts/slideLayout68.xml"/><Relationship Id="rId22" Type="http://schemas.openxmlformats.org/officeDocument/2006/relationships/slideLayout" Target="../slideLayouts/slideLayout69.xml"/><Relationship Id="rId23" Type="http://schemas.openxmlformats.org/officeDocument/2006/relationships/slideLayout" Target="../slideLayouts/slideLayout70.xml"/><Relationship Id="rId24" Type="http://schemas.openxmlformats.org/officeDocument/2006/relationships/slideLayout" Target="../slideLayouts/slideLayout71.xml"/><Relationship Id="rId2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09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73.xml"/><Relationship Id="rId15" Type="http://schemas.openxmlformats.org/officeDocument/2006/relationships/slideLayout" Target="../slideLayouts/slideLayout74.xml"/><Relationship Id="rId16" Type="http://schemas.openxmlformats.org/officeDocument/2006/relationships/slideLayout" Target="../slideLayouts/slideLayout75.xml"/><Relationship Id="rId17" Type="http://schemas.openxmlformats.org/officeDocument/2006/relationships/slideLayout" Target="../slideLayouts/slideLayout76.xml"/><Relationship Id="rId18" Type="http://schemas.openxmlformats.org/officeDocument/2006/relationships/slideLayout" Target="../slideLayouts/slideLayout77.xml"/><Relationship Id="rId19" Type="http://schemas.openxmlformats.org/officeDocument/2006/relationships/slideLayout" Target="../slideLayouts/slideLayout78.xml"/><Relationship Id="rId20" Type="http://schemas.openxmlformats.org/officeDocument/2006/relationships/slideLayout" Target="../slideLayouts/slideLayout79.xml"/><Relationship Id="rId21" Type="http://schemas.openxmlformats.org/officeDocument/2006/relationships/slideLayout" Target="../slideLayouts/slideLayout80.xml"/><Relationship Id="rId22" Type="http://schemas.openxmlformats.org/officeDocument/2006/relationships/slideLayout" Target="../slideLayouts/slideLayout81.xml"/><Relationship Id="rId23" Type="http://schemas.openxmlformats.org/officeDocument/2006/relationships/slideLayout" Target="../slideLayouts/slideLayout82.xml"/><Relationship Id="rId24" Type="http://schemas.openxmlformats.org/officeDocument/2006/relationships/slideLayout" Target="../slideLayouts/slideLayout83.xml"/><Relationship Id="rId2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09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85.xml"/><Relationship Id="rId15" Type="http://schemas.openxmlformats.org/officeDocument/2006/relationships/slideLayout" Target="../slideLayouts/slideLayout86.xml"/><Relationship Id="rId16" Type="http://schemas.openxmlformats.org/officeDocument/2006/relationships/slideLayout" Target="../slideLayouts/slideLayout87.xml"/><Relationship Id="rId17" Type="http://schemas.openxmlformats.org/officeDocument/2006/relationships/slideLayout" Target="../slideLayouts/slideLayout88.xml"/><Relationship Id="rId18" Type="http://schemas.openxmlformats.org/officeDocument/2006/relationships/slideLayout" Target="../slideLayouts/slideLayout89.xml"/><Relationship Id="rId19" Type="http://schemas.openxmlformats.org/officeDocument/2006/relationships/slideLayout" Target="../slideLayouts/slideLayout90.xml"/><Relationship Id="rId20" Type="http://schemas.openxmlformats.org/officeDocument/2006/relationships/slideLayout" Target="../slideLayouts/slideLayout91.xml"/><Relationship Id="rId21" Type="http://schemas.openxmlformats.org/officeDocument/2006/relationships/slideLayout" Target="../slideLayouts/slideLayout92.xml"/><Relationship Id="rId22" Type="http://schemas.openxmlformats.org/officeDocument/2006/relationships/slideLayout" Target="../slideLayouts/slideLayout93.xml"/><Relationship Id="rId23" Type="http://schemas.openxmlformats.org/officeDocument/2006/relationships/slideLayout" Target="../slideLayouts/slideLayout94.xml"/><Relationship Id="rId24" Type="http://schemas.openxmlformats.org/officeDocument/2006/relationships/slideLayout" Target="../slideLayouts/slideLayout95.xml"/><Relationship Id="rId2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hyperlink" Target="file:///10Math_A2_CR09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<Relationship Id="rId15" Type="http://schemas.openxmlformats.org/officeDocument/2006/relationships/slideLayout" Target="../slideLayouts/slideLayout98.xml"/><Relationship Id="rId16" Type="http://schemas.openxmlformats.org/officeDocument/2006/relationships/slideLayout" Target="../slideLayouts/slideLayout99.xml"/><Relationship Id="rId17" Type="http://schemas.openxmlformats.org/officeDocument/2006/relationships/slideLayout" Target="../slideLayouts/slideLayout100.xml"/><Relationship Id="rId18" Type="http://schemas.openxmlformats.org/officeDocument/2006/relationships/slideLayout" Target="../slideLayouts/slideLayout101.xml"/><Relationship Id="rId19" Type="http://schemas.openxmlformats.org/officeDocument/2006/relationships/slideLayout" Target="../slideLayouts/slideLayout102.xml"/><Relationship Id="rId20" Type="http://schemas.openxmlformats.org/officeDocument/2006/relationships/slideLayout" Target="../slideLayouts/slideLayout103.xml"/><Relationship Id="rId21" Type="http://schemas.openxmlformats.org/officeDocument/2006/relationships/slideLayout" Target="../slideLayouts/slideLayout104.xml"/><Relationship Id="rId22" Type="http://schemas.openxmlformats.org/officeDocument/2006/relationships/slideLayout" Target="../slideLayouts/slideLayout105.xml"/><Relationship Id="rId23" Type="http://schemas.openxmlformats.org/officeDocument/2006/relationships/slideLayout" Target="../slideLayouts/slideLayout106.xml"/><Relationship Id="rId24" Type="http://schemas.openxmlformats.org/officeDocument/2006/relationships/slideLayout" Target="../slideLayouts/slideLayout107.xml"/><Relationship Id="rId2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19173" b="2899"/>
          <a:stretch/>
        </p:blipFill>
        <p:spPr>
          <a:xfrm>
            <a:off x="1752480" y="6067440"/>
            <a:ext cx="7391520" cy="78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3962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675324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6"/>
          <a:stretch/>
        </p:blipFill>
        <p:spPr>
          <a:xfrm>
            <a:off x="809640" y="685800"/>
            <a:ext cx="3683160" cy="1100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29936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9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0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>
            <a:hlinkClick r:id="rId5" action="ppaction://hlinksldjump"/>
          </p:cNvPr>
          <p:cNvPicPr/>
          <p:nvPr/>
        </p:nvPicPr>
        <p:blipFill>
          <a:blip r:embed="rId6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7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1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14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15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6"/>
    <p:sldLayoutId id="2147483767" r:id="rId17"/>
    <p:sldLayoutId id="2147483768" r:id="rId18"/>
    <p:sldLayoutId id="2147483769" r:id="rId19"/>
    <p:sldLayoutId id="2147483770" r:id="rId20"/>
    <p:sldLayoutId id="2147483771" r:id="rId21"/>
    <p:sldLayoutId id="2147483772" r:id="rId22"/>
    <p:sldLayoutId id="2147483773" r:id="rId23"/>
    <p:sldLayoutId id="2147483774" r:id="rId24"/>
    <p:sldLayoutId id="2147483775" r:id="rId25"/>
    <p:sldLayoutId id="2147483776" r:id="rId26"/>
    <p:sldLayoutId id="2147483777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8320" y="657360"/>
            <a:ext cx="6793200" cy="62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7467480" y="77616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86200" y="800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984c"/>
                </a:solidFill>
                <a:latin typeface="Arial"/>
              </a:rPr>
              <a:t>Over Lesson 9–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4"/>
    <p:sldLayoutId id="2147483689" r:id="rId15"/>
    <p:sldLayoutId id="2147483690" r:id="rId16"/>
    <p:sldLayoutId id="2147483691" r:id="rId17"/>
    <p:sldLayoutId id="2147483692" r:id="rId18"/>
    <p:sldLayoutId id="2147483693" r:id="rId19"/>
    <p:sldLayoutId id="2147483694" r:id="rId20"/>
    <p:sldLayoutId id="2147483695" r:id="rId21"/>
    <p:sldLayoutId id="2147483696" r:id="rId22"/>
    <p:sldLayoutId id="2147483697" r:id="rId23"/>
    <p:sldLayoutId id="2147483698" r:id="rId24"/>
    <p:sldLayoutId id="2147483699" r:id="rId2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3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4"/>
    <p:sldLayoutId id="2147483715" r:id="rId15"/>
    <p:sldLayoutId id="2147483716" r:id="rId16"/>
    <p:sldLayoutId id="2147483717" r:id="rId17"/>
    <p:sldLayoutId id="2147483718" r:id="rId18"/>
    <p:sldLayoutId id="2147483719" r:id="rId19"/>
    <p:sldLayoutId id="2147483720" r:id="rId20"/>
    <p:sldLayoutId id="2147483721" r:id="rId21"/>
    <p:sldLayoutId id="2147483722" r:id="rId22"/>
    <p:sldLayoutId id="2147483723" r:id="rId23"/>
    <p:sldLayoutId id="2147483724" r:id="rId24"/>
    <p:sldLayoutId id="2147483725" r:id="rId2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3"/>
          <a:stretch/>
        </p:blipFill>
        <p:spPr>
          <a:xfrm>
            <a:off x="609480" y="685800"/>
            <a:ext cx="6739200" cy="29908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4"/>
    <p:sldLayoutId id="2147483728" r:id="rId15"/>
    <p:sldLayoutId id="2147483729" r:id="rId16"/>
    <p:sldLayoutId id="2147483730" r:id="rId17"/>
    <p:sldLayoutId id="2147483731" r:id="rId18"/>
    <p:sldLayoutId id="2147483732" r:id="rId19"/>
    <p:sldLayoutId id="2147483733" r:id="rId20"/>
    <p:sldLayoutId id="2147483734" r:id="rId21"/>
    <p:sldLayoutId id="2147483735" r:id="rId22"/>
    <p:sldLayoutId id="2147483736" r:id="rId23"/>
    <p:sldLayoutId id="2147483737" r:id="rId24"/>
    <p:sldLayoutId id="2147483738" r:id="rId2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3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4"/>
    <p:sldLayoutId id="2147483741" r:id="rId15"/>
    <p:sldLayoutId id="2147483742" r:id="rId16"/>
    <p:sldLayoutId id="2147483743" r:id="rId17"/>
    <p:sldLayoutId id="2147483744" r:id="rId18"/>
    <p:sldLayoutId id="2147483745" r:id="rId19"/>
    <p:sldLayoutId id="2147483746" r:id="rId20"/>
    <p:sldLayoutId id="2147483747" r:id="rId21"/>
    <p:sldLayoutId id="2147483748" r:id="rId22"/>
    <p:sldLayoutId id="2147483749" r:id="rId23"/>
    <p:sldLayoutId id="2147483750" r:id="rId24"/>
    <p:sldLayoutId id="2147483751" r:id="rId2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4"/>
    <p:sldLayoutId id="2147483754" r:id="rId15"/>
    <p:sldLayoutId id="2147483755" r:id="rId16"/>
    <p:sldLayoutId id="2147483756" r:id="rId17"/>
    <p:sldLayoutId id="2147483757" r:id="rId18"/>
    <p:sldLayoutId id="2147483758" r:id="rId19"/>
    <p:sldLayoutId id="2147483759" r:id="rId20"/>
    <p:sldLayoutId id="2147483760" r:id="rId21"/>
    <p:sldLayoutId id="2147483761" r:id="rId22"/>
    <p:sldLayoutId id="2147483762" r:id="rId23"/>
    <p:sldLayoutId id="2147483763" r:id="rId24"/>
    <p:sldLayoutId id="2147483764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hyperlink" Target="http://www.glencoe.com/apps/eGlossary612/grade.php" TargetMode="External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image" Target="../media/image13.jpe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6.xml"/><Relationship Id="rId6" Type="http://schemas.openxmlformats.org/officeDocument/2006/relationships/slide" Target="slide23.xml"/><Relationship Id="rId7" Type="http://schemas.openxmlformats.org/officeDocument/2006/relationships/slide" Target="slide29.xml"/><Relationship Id="rId8" Type="http://schemas.openxmlformats.org/officeDocument/2006/relationships/slide" Target="slide35.xml"/><Relationship Id="rId9" Type="http://schemas.openxmlformats.org/officeDocument/2006/relationships/slide" Target="slide40.xml"/><Relationship Id="rId10" Type="http://schemas.openxmlformats.org/officeDocument/2006/relationships/slide" Target="slide41.xml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5.png"/><Relationship Id="rId3" Type="http://schemas.openxmlformats.org/officeDocument/2006/relationships/image" Target="../media/image55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image" Target="../media/image48.png"/><Relationship Id="rId4" Type="http://schemas.openxmlformats.org/officeDocument/2006/relationships/image" Target="../media/image13.jpe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1.png"/><Relationship Id="rId3" Type="http://schemas.openxmlformats.org/officeDocument/2006/relationships/image" Target="../media/image61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1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1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2.png"/><Relationship Id="rId3" Type="http://schemas.openxmlformats.org/officeDocument/2006/relationships/image" Target="../media/image64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image" Target="../media/image48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67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7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0.png"/><Relationship Id="rId3" Type="http://schemas.openxmlformats.org/officeDocument/2006/relationships/image" Target="../media/image70.png"/><Relationship Id="rId4" Type="http://schemas.openxmlformats.org/officeDocument/2006/relationships/image" Target="../media/image70.png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7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1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7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73.png"/><Relationship Id="rId3" Type="http://schemas.openxmlformats.org/officeDocument/2006/relationships/image" Target="../media/image73.png"/><Relationship Id="rId4" Type="http://schemas.openxmlformats.org/officeDocument/2006/relationships/image" Target="../media/image73.png"/><Relationship Id="rId5" Type="http://schemas.openxmlformats.org/officeDocument/2006/relationships/slideLayout" Target="../slideLayouts/slideLayout7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image" Target="../media/image48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7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8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5.pn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8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8.png"/><Relationship Id="rId3" Type="http://schemas.openxmlformats.org/officeDocument/2006/relationships/image" Target="../media/image78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8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0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8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image" Target="../media/image48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9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5.png"/><Relationship Id="rId3" Type="http://schemas.openxmlformats.org/officeDocument/2006/relationships/image" Target="../media/image85.png"/><Relationship Id="rId4" Type="http://schemas.openxmlformats.org/officeDocument/2006/relationships/image" Target="../media/image85.png"/><Relationship Id="rId5" Type="http://schemas.openxmlformats.org/officeDocument/2006/relationships/slideLayout" Target="../slideLayouts/slideLayout9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9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7.png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9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8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image" Target="../media/image90.png"/><Relationship Id="rId6" Type="http://schemas.openxmlformats.org/officeDocument/2006/relationships/slideLayout" Target="../slideLayouts/slideLayout9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1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92.png"/><Relationship Id="rId6" Type="http://schemas.openxmlformats.org/officeDocument/2006/relationships/slideLayout" Target="../slideLayouts/slideLayout9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image" Target="../media/image48.png"/><Relationship Id="rId4" Type="http://schemas.openxmlformats.org/officeDocument/2006/relationships/image" Target="../media/image13.jpeg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9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ash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rcRect l="11673" t="55591" r="50925" b="14409"/>
          <a:stretch/>
        </p:blipFill>
        <p:spPr>
          <a:xfrm>
            <a:off x="2324160" y="3809880"/>
            <a:ext cx="3419280" cy="20574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200400" y="464832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1819440" y="488484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711360" y="74304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812880" y="1828800"/>
            <a:ext cx="761976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ed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in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glossary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5181480"/>
            <a:ext cx="1647720" cy="76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a Rational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3520" y="2352600"/>
            <a:ext cx="8076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CD for the terms is 24(3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688000" y="3070080"/>
            <a:ext cx="3003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876240" y="1308240"/>
            <a:ext cx="7705800" cy="780840"/>
            <a:chOff x="876240" y="1308240"/>
            <a:chExt cx="7705800" cy="780840"/>
          </a:xfrm>
        </p:grpSpPr>
        <p:sp>
          <p:nvSpPr>
            <p:cNvPr id="557" name=""/>
            <p:cNvSpPr/>
            <p:nvPr/>
          </p:nvSpPr>
          <p:spPr>
            <a:xfrm>
              <a:off x="876240" y="1506600"/>
              <a:ext cx="770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olve                          . Check your solu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8" name="" descr=""/>
            <p:cNvPicPr/>
            <p:nvPr/>
          </p:nvPicPr>
          <p:blipFill>
            <a:blip r:embed="rId1"/>
            <a:stretch/>
          </p:blipFill>
          <p:spPr>
            <a:xfrm>
              <a:off x="1895400" y="1308240"/>
              <a:ext cx="1992240" cy="78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9" name="" descr=""/>
          <p:cNvPicPr/>
          <p:nvPr/>
        </p:nvPicPr>
        <p:blipFill>
          <a:blip r:embed="rId2"/>
          <a:srcRect l="0" t="45453" r="0" b="0"/>
          <a:stretch/>
        </p:blipFill>
        <p:spPr>
          <a:xfrm>
            <a:off x="946080" y="3792600"/>
            <a:ext cx="4692600" cy="101736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3"/>
          <a:srcRect l="0" t="0" r="0" b="52681"/>
          <a:stretch/>
        </p:blipFill>
        <p:spPr>
          <a:xfrm>
            <a:off x="946080" y="2944800"/>
            <a:ext cx="4692600" cy="8827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5688000" y="4122720"/>
            <a:ext cx="3003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each side by 24(3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a Rational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781600" y="2529000"/>
            <a:ext cx="293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rcRect l="0" t="85691" r="0" b="0"/>
          <a:stretch/>
        </p:blipFill>
        <p:spPr>
          <a:xfrm>
            <a:off x="961920" y="5013360"/>
            <a:ext cx="6837480" cy="4334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rcRect l="0" t="63142" r="0" b="16675"/>
          <a:stretch/>
        </p:blipFill>
        <p:spPr>
          <a:xfrm>
            <a:off x="961920" y="3968640"/>
            <a:ext cx="6837480" cy="6112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rcRect l="0" t="46466" r="0" b="39277"/>
          <a:stretch/>
        </p:blipFill>
        <p:spPr>
          <a:xfrm>
            <a:off x="961920" y="3068640"/>
            <a:ext cx="6837480" cy="43164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rcRect l="0" t="0" r="0" b="55900"/>
          <a:stretch/>
        </p:blipFill>
        <p:spPr>
          <a:xfrm>
            <a:off x="961920" y="1230480"/>
            <a:ext cx="6837480" cy="133488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5781600" y="3500280"/>
            <a:ext cx="293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81600" y="4579920"/>
            <a:ext cx="293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81600" y="5483160"/>
            <a:ext cx="2930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 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–63 to 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a Rational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400720" y="1503360"/>
            <a:ext cx="3209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rcRect l="0" t="80485" r="0" b="0"/>
          <a:stretch/>
        </p:blipFill>
        <p:spPr>
          <a:xfrm>
            <a:off x="2309760" y="5130720"/>
            <a:ext cx="2446560" cy="92556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"/>
          <a:srcRect l="0" t="60733" r="0" b="18014"/>
          <a:stretch/>
        </p:blipFill>
        <p:spPr>
          <a:xfrm>
            <a:off x="2281320" y="4194000"/>
            <a:ext cx="2446200" cy="100836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3"/>
          <a:srcRect l="0" t="43288" r="0" b="38500"/>
          <a:stretch/>
        </p:blipFill>
        <p:spPr>
          <a:xfrm>
            <a:off x="2281320" y="3367080"/>
            <a:ext cx="2446200" cy="86364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4"/>
          <a:srcRect l="0" t="19752" r="0" b="61269"/>
          <a:stretch/>
        </p:blipFill>
        <p:spPr>
          <a:xfrm>
            <a:off x="2281320" y="2251080"/>
            <a:ext cx="2446200" cy="900000"/>
          </a:xfrm>
          <a:prstGeom prst="rect">
            <a:avLst/>
          </a:prstGeom>
          <a:ln w="0">
            <a:noFill/>
          </a:ln>
        </p:spPr>
      </p:pic>
      <p:grpSp>
        <p:nvGrpSpPr>
          <p:cNvPr id="579" name=""/>
          <p:cNvGrpSpPr/>
          <p:nvPr/>
        </p:nvGrpSpPr>
        <p:grpSpPr>
          <a:xfrm>
            <a:off x="876240" y="1314360"/>
            <a:ext cx="7705800" cy="936720"/>
            <a:chOff x="876240" y="1314360"/>
            <a:chExt cx="7705800" cy="936720"/>
          </a:xfrm>
        </p:grpSpPr>
        <p:sp>
          <p:nvSpPr>
            <p:cNvPr id="580" name=""/>
            <p:cNvSpPr/>
            <p:nvPr/>
          </p:nvSpPr>
          <p:spPr>
            <a:xfrm>
              <a:off x="876240" y="1512720"/>
              <a:ext cx="770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Che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" descr=""/>
            <p:cNvPicPr/>
            <p:nvPr/>
          </p:nvPicPr>
          <p:blipFill>
            <a:blip r:embed="rId5"/>
            <a:srcRect l="0" t="0" r="0" b="80253"/>
            <a:stretch/>
          </p:blipFill>
          <p:spPr>
            <a:xfrm>
              <a:off x="2281320" y="1314360"/>
              <a:ext cx="2446200" cy="93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"/>
          <p:cNvSpPr/>
          <p:nvPr/>
        </p:nvSpPr>
        <p:spPr>
          <a:xfrm>
            <a:off x="5400720" y="2443320"/>
            <a:ext cx="3209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–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400720" y="3522600"/>
            <a:ext cx="3209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400720" y="4554360"/>
            <a:ext cx="3209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400720" y="5346720"/>
            <a:ext cx="3209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ution is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755960" y="5467320"/>
            <a:ext cx="43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a Rational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76240" y="1514520"/>
            <a:ext cx="770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Answer: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The solution is –4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596" name=""/>
          <p:cNvGrpSpPr/>
          <p:nvPr/>
        </p:nvGrpSpPr>
        <p:grpSpPr>
          <a:xfrm>
            <a:off x="533520" y="1351080"/>
            <a:ext cx="8172360" cy="780840"/>
            <a:chOff x="533520" y="1351080"/>
            <a:chExt cx="8172360" cy="780840"/>
          </a:xfrm>
        </p:grpSpPr>
        <p:sp>
          <p:nvSpPr>
            <p:cNvPr id="597" name="TPQuestion"/>
            <p:cNvSpPr/>
            <p:nvPr/>
          </p:nvSpPr>
          <p:spPr>
            <a:xfrm>
              <a:off x="533520" y="1514160"/>
              <a:ext cx="8172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olve                      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5"/>
            <a:stretch/>
          </p:blipFill>
          <p:spPr>
            <a:xfrm>
              <a:off x="1897200" y="1351080"/>
              <a:ext cx="1738080" cy="78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"/>
          <p:cNvGrpSpPr/>
          <p:nvPr/>
        </p:nvGrpSpPr>
        <p:grpSpPr>
          <a:xfrm>
            <a:off x="914400" y="2343240"/>
            <a:ext cx="2790720" cy="3306600"/>
            <a:chOff x="914400" y="2343240"/>
            <a:chExt cx="2790720" cy="3306600"/>
          </a:xfrm>
        </p:grpSpPr>
        <p:sp>
          <p:nvSpPr>
            <p:cNvPr id="600" name="TPAnswers"/>
            <p:cNvSpPr/>
            <p:nvPr/>
          </p:nvSpPr>
          <p:spPr>
            <a:xfrm>
              <a:off x="914400" y="2343240"/>
              <a:ext cx="279072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–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" descr=""/>
            <p:cNvPicPr/>
            <p:nvPr/>
          </p:nvPicPr>
          <p:blipFill>
            <a:blip r:embed="rId6"/>
            <a:srcRect l="0" t="52602" r="-7195" b="18658"/>
            <a:stretch/>
          </p:blipFill>
          <p:spPr>
            <a:xfrm>
              <a:off x="1492200" y="3966840"/>
              <a:ext cx="53964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" descr=""/>
            <p:cNvPicPr/>
            <p:nvPr/>
          </p:nvPicPr>
          <p:blipFill>
            <a:blip r:embed="rId7"/>
            <a:srcRect l="0" t="21308" r="-7195" b="49952"/>
            <a:stretch/>
          </p:blipFill>
          <p:spPr>
            <a:xfrm>
              <a:off x="1492200" y="3138480"/>
              <a:ext cx="539640" cy="82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"/>
          <p:cNvSpPr/>
          <p:nvPr/>
        </p:nvSpPr>
        <p:spPr>
          <a:xfrm>
            <a:off x="888840" y="326376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rcRect l="18211" t="0" r="39973" b="65223"/>
          <a:stretch/>
        </p:blipFill>
        <p:spPr>
          <a:xfrm>
            <a:off x="1844640" y="2879640"/>
            <a:ext cx="3565440" cy="93348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a Rational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33520" y="2290680"/>
            <a:ext cx="8076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CD i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)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99240" y="3095640"/>
            <a:ext cx="3008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876240" y="1295280"/>
            <a:ext cx="7705800" cy="897120"/>
            <a:chOff x="876240" y="1295280"/>
            <a:chExt cx="7705800" cy="897120"/>
          </a:xfrm>
        </p:grpSpPr>
        <p:sp>
          <p:nvSpPr>
            <p:cNvPr id="610" name=""/>
            <p:cNvSpPr/>
            <p:nvPr/>
          </p:nvSpPr>
          <p:spPr>
            <a:xfrm>
              <a:off x="876240" y="1512720"/>
              <a:ext cx="770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olve                                   </a:t>
              </a:r>
              <a:r>
                <a:rPr b="1" lang="en-US" sz="8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  Check your solu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1" name="" descr=""/>
            <p:cNvPicPr/>
            <p:nvPr/>
          </p:nvPicPr>
          <p:blipFill>
            <a:blip r:embed="rId2"/>
            <a:stretch/>
          </p:blipFill>
          <p:spPr>
            <a:xfrm>
              <a:off x="1833480" y="1295280"/>
              <a:ext cx="3117960" cy="89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2" name="" descr=""/>
          <p:cNvPicPr/>
          <p:nvPr/>
        </p:nvPicPr>
        <p:blipFill>
          <a:blip r:embed="rId3"/>
          <a:srcRect l="0" t="53588" r="0" b="0"/>
          <a:stretch/>
        </p:blipFill>
        <p:spPr>
          <a:xfrm>
            <a:off x="352440" y="3925800"/>
            <a:ext cx="8381880" cy="12258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5799240" y="5022720"/>
            <a:ext cx="2970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by the L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a Rational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560" y="1503360"/>
            <a:ext cx="78692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43600" indent="-5943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086280"/>
                <a:tab algn="l" pos="320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1)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5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7)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1)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1)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2760" y="2646360"/>
            <a:ext cx="8308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43600" indent="-5943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086280"/>
                <a:tab algn="l" pos="320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5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7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7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1560" y="3781440"/>
            <a:ext cx="78692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43600" indent="-5943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086280"/>
                <a:tab algn="l" pos="320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8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1560" y="4591080"/>
            <a:ext cx="8048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43600" indent="-5943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086280"/>
                <a:tab algn="l" pos="320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4p –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01560" y="1836720"/>
            <a:ext cx="7869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086280"/>
                <a:tab algn="l" pos="320040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vide comm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80880" y="2971800"/>
            <a:ext cx="8309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086280"/>
                <a:tab algn="l" pos="3200400"/>
                <a:tab algn="l" pos="5762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01560" y="4113360"/>
            <a:ext cx="7869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086280"/>
                <a:tab algn="l" pos="320040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01560" y="4923000"/>
            <a:ext cx="8048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086280"/>
                <a:tab algn="l" pos="320040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btra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rom 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rcRect l="0" t="18893" r="47824" b="61007"/>
          <a:stretch/>
        </p:blipFill>
        <p:spPr>
          <a:xfrm>
            <a:off x="1562040" y="4933800"/>
            <a:ext cx="4917960" cy="93996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a Rational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676520" y="18288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38080" y="26290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305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ero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371600" y="15145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2286000"/>
                <a:tab algn="l" pos="2428920"/>
                <a:tab algn="l" pos="274320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3)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)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371600" y="188604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2343240"/>
                <a:tab algn="l" pos="2505240"/>
                <a:tab algn="l" pos="274320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371600" y="225756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2286000"/>
                <a:tab algn="l" pos="2438280"/>
                <a:tab algn="l" pos="274320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3 or 0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 or 0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010200" y="4303800"/>
            <a:ext cx="254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3581280"/>
            <a:ext cx="7763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Check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–3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rcRect l="6541" t="0" r="54782" b="80638"/>
          <a:stretch/>
        </p:blipFill>
        <p:spPr>
          <a:xfrm>
            <a:off x="2174760" y="4079880"/>
            <a:ext cx="3656160" cy="9064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037200" y="5737320"/>
            <a:ext cx="254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–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1"/>
          <a:srcRect l="13551" t="74201" r="53160" b="7918"/>
          <a:stretch/>
        </p:blipFill>
        <p:spPr>
          <a:xfrm>
            <a:off x="2827440" y="3154320"/>
            <a:ext cx="3154320" cy="84132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a Rational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89680" y="2457360"/>
            <a:ext cx="254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989680" y="1523880"/>
            <a:ext cx="254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952880" y="3357720"/>
            <a:ext cx="43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rcRect l="9156" t="38315" r="56876" b="43590"/>
          <a:stretch/>
        </p:blipFill>
        <p:spPr>
          <a:xfrm>
            <a:off x="2421000" y="1295280"/>
            <a:ext cx="3217680" cy="85104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3"/>
          <a:srcRect l="15279" t="56151" r="58811" b="25754"/>
          <a:stretch/>
        </p:blipFill>
        <p:spPr>
          <a:xfrm>
            <a:off x="3000240" y="2239920"/>
            <a:ext cx="2432160" cy="84312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6140520" y="4975200"/>
            <a:ext cx="254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85800" y="4165560"/>
            <a:ext cx="7772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–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4"/>
          <a:srcRect l="5337" t="0" r="54258" b="77189"/>
          <a:stretch/>
        </p:blipFill>
        <p:spPr>
          <a:xfrm>
            <a:off x="2075040" y="4759200"/>
            <a:ext cx="3801960" cy="878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essonmenutext"/>
          <p:cNvSpPr/>
          <p:nvPr/>
        </p:nvSpPr>
        <p:spPr>
          <a:xfrm>
            <a:off x="1066680" y="1855800"/>
            <a:ext cx="7583760" cy="37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1" action="ppaction://hlinksldjump"/>
              </a:rPr>
              <a:t>Five-Minute Check (over Lesson 9–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2" action="ppaction://hlinksldjump"/>
              </a:rPr>
              <a:t>Then/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3" action="ppaction://hlinksldjump"/>
              </a:rPr>
              <a:t>New 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4" action="ppaction://hlinksldjump"/>
              </a:rPr>
              <a:t>Example 1:	Solve a Rational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5" action="ppaction://hlinksldjump"/>
              </a:rPr>
              <a:t>Example 2:	Solve a Rational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6" action="ppaction://hlinksldjump"/>
              </a:rPr>
              <a:t>Example 3:	Real-World Example: Mixtur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7" action="ppaction://hlinksldjump"/>
              </a:rPr>
              <a:t>Example 4:	Real-World Example: Distanc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8" action="ppaction://hlinksldjump"/>
              </a:rPr>
              <a:t>Example 5:	Real-World Example: Work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9" action="ppaction://hlinksldjump"/>
              </a:rPr>
              <a:t>Key Concept:  Solving Rational Inequ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10" action="ppaction://hlinksldjump"/>
              </a:rPr>
              <a:t>Example 6:	Solve a Rational In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a Rational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43600" y="3962520"/>
            <a:ext cx="254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rcRect l="8634" t="46468" r="56300" b="31489"/>
          <a:stretch/>
        </p:blipFill>
        <p:spPr>
          <a:xfrm>
            <a:off x="2382840" y="2685960"/>
            <a:ext cx="3322800" cy="8542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rcRect l="14871" t="68088" r="59891" b="9833"/>
          <a:stretch/>
        </p:blipFill>
        <p:spPr>
          <a:xfrm>
            <a:off x="2951280" y="3733920"/>
            <a:ext cx="2392200" cy="8557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3"/>
          <a:srcRect l="16690" t="89224" r="63730" b="-762"/>
          <a:stretch/>
        </p:blipFill>
        <p:spPr>
          <a:xfrm>
            <a:off x="3133800" y="4795920"/>
            <a:ext cx="1855800" cy="44748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4"/>
          <a:srcRect l="0" t="22660" r="47458" b="53381"/>
          <a:stretch/>
        </p:blipFill>
        <p:spPr>
          <a:xfrm>
            <a:off x="1581120" y="1287360"/>
            <a:ext cx="4935600" cy="92088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6095880" y="2084400"/>
            <a:ext cx="254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95880" y="2922480"/>
            <a:ext cx="254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952880" y="4846680"/>
            <a:ext cx="43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a Rational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5819760"/>
            <a:ext cx="4886280" cy="6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85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3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e01b22"/>
                </a:solidFill>
                <a:latin typeface="Arial"/>
              </a:rPr>
              <a:t>The solutions are </a:t>
            </a:r>
            <a:br>
              <a:rPr sz="2300"/>
            </a:br>
            <a:r>
              <a:rPr b="0" lang="en-US" sz="2300" spc="-1" strike="noStrike">
                <a:solidFill>
                  <a:srgbClr val="e01b22"/>
                </a:solidFill>
                <a:latin typeface="Arial"/>
              </a:rPr>
              <a:t>–3, –2 and 2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1533600"/>
            <a:ext cx="7772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140520" y="2219400"/>
            <a:ext cx="254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43600" y="4808520"/>
            <a:ext cx="254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095880" y="3110040"/>
            <a:ext cx="254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095880" y="4011480"/>
            <a:ext cx="254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rcRect l="0" t="22617" r="53096" b="53096"/>
          <a:stretch/>
        </p:blipFill>
        <p:spPr>
          <a:xfrm>
            <a:off x="1906560" y="2865600"/>
            <a:ext cx="4275000" cy="94140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2"/>
          <a:srcRect l="5749" t="46704" r="60097" b="31713"/>
          <a:stretch/>
        </p:blipFill>
        <p:spPr>
          <a:xfrm>
            <a:off x="2428920" y="3786120"/>
            <a:ext cx="3112920" cy="83664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rcRect l="12961" t="68584" r="61976" b="10081"/>
          <a:stretch/>
        </p:blipFill>
        <p:spPr>
          <a:xfrm>
            <a:off x="3076560" y="4603680"/>
            <a:ext cx="2284560" cy="82728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rcRect l="11914" t="89725" r="62082" b="0"/>
          <a:stretch/>
        </p:blipFill>
        <p:spPr>
          <a:xfrm>
            <a:off x="2995560" y="5410080"/>
            <a:ext cx="2370240" cy="3985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5"/>
          <a:srcRect l="1568" t="0" r="55080" b="77189"/>
          <a:stretch/>
        </p:blipFill>
        <p:spPr>
          <a:xfrm>
            <a:off x="2038320" y="2000160"/>
            <a:ext cx="3951360" cy="88416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5057640" y="5418000"/>
            <a:ext cx="43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5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677" name="TPAnswers"/>
          <p:cNvSpPr/>
          <p:nvPr/>
        </p:nvSpPr>
        <p:spPr>
          <a:xfrm>
            <a:off x="914400" y="2568600"/>
            <a:ext cx="27907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95320" y="346716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914400" y="1352520"/>
            <a:ext cx="4546440" cy="793800"/>
            <a:chOff x="914400" y="1352520"/>
            <a:chExt cx="4546440" cy="793800"/>
          </a:xfrm>
        </p:grpSpPr>
        <p:pic>
          <p:nvPicPr>
            <p:cNvPr id="680" name="" descr=""/>
            <p:cNvPicPr/>
            <p:nvPr/>
          </p:nvPicPr>
          <p:blipFill>
            <a:blip r:embed="rId5"/>
            <a:srcRect l="0" t="0" r="55353" b="0"/>
            <a:stretch/>
          </p:blipFill>
          <p:spPr>
            <a:xfrm>
              <a:off x="914400" y="1352520"/>
              <a:ext cx="1981080" cy="78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" descr=""/>
            <p:cNvPicPr/>
            <p:nvPr/>
          </p:nvPicPr>
          <p:blipFill>
            <a:blip r:embed="rId6"/>
            <a:stretch/>
          </p:blipFill>
          <p:spPr>
            <a:xfrm>
              <a:off x="2819520" y="1352520"/>
              <a:ext cx="2641320" cy="793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Mixtur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876240" y="1512720"/>
            <a:ext cx="7705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BR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Aaron adds an 80% brine (salt and water) solution to 16 ounces of solution that is 10% brine. How much of the solution should be added to create a solution that is 50% br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876240" y="3084480"/>
            <a:ext cx="7648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Underst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ron needs to know how much of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needs to be added to 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solution to create a ne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Mixtur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76240" y="1523880"/>
            <a:ext cx="76485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olution has a cert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that is salt.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of brine in the fi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must equal the amoun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e divided by the total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1820880" y="3397320"/>
            <a:ext cx="5484960" cy="1754280"/>
          </a:xfrm>
          <a:prstGeom prst="rect">
            <a:avLst/>
          </a:prstGeom>
          <a:ln w="0">
            <a:noFill/>
          </a:ln>
        </p:spPr>
      </p:pic>
      <p:grpSp>
        <p:nvGrpSpPr>
          <p:cNvPr id="690" name=""/>
          <p:cNvGrpSpPr/>
          <p:nvPr/>
        </p:nvGrpSpPr>
        <p:grpSpPr>
          <a:xfrm>
            <a:off x="1359000" y="5105520"/>
            <a:ext cx="6816600" cy="804600"/>
            <a:chOff x="1359000" y="5105520"/>
            <a:chExt cx="6816600" cy="804600"/>
          </a:xfrm>
        </p:grpSpPr>
        <p:pic>
          <p:nvPicPr>
            <p:cNvPr id="691" name="" descr=""/>
            <p:cNvPicPr/>
            <p:nvPr/>
          </p:nvPicPr>
          <p:blipFill>
            <a:blip r:embed="rId2"/>
            <a:srcRect l="63536" t="0" r="0" b="0"/>
            <a:stretch/>
          </p:blipFill>
          <p:spPr>
            <a:xfrm>
              <a:off x="5638680" y="5105520"/>
              <a:ext cx="253692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1359000" y="52578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01b22"/>
                  </a:solidFill>
                  <a:latin typeface="Arial"/>
                </a:rPr>
                <a:t>Percentage of brine in s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Mixtur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876240" y="2529000"/>
            <a:ext cx="7648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76240" y="3552840"/>
            <a:ext cx="7648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nume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76240" y="5351400"/>
            <a:ext cx="7648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D is 100(10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876240" y="1305000"/>
            <a:ext cx="7648560" cy="833400"/>
            <a:chOff x="876240" y="1305000"/>
            <a:chExt cx="7648560" cy="833400"/>
          </a:xfrm>
        </p:grpSpPr>
        <p:sp>
          <p:nvSpPr>
            <p:cNvPr id="699" name=""/>
            <p:cNvSpPr/>
            <p:nvPr/>
          </p:nvSpPr>
          <p:spPr>
            <a:xfrm>
              <a:off x="876240" y="1514520"/>
              <a:ext cx="7648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8006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Solv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rite a propor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1"/>
            <a:srcRect l="17554" t="0" r="11796" b="85071"/>
            <a:stretch/>
          </p:blipFill>
          <p:spPr>
            <a:xfrm>
              <a:off x="1854360" y="1305000"/>
              <a:ext cx="3830400" cy="833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1" name="" descr=""/>
          <p:cNvPicPr/>
          <p:nvPr/>
        </p:nvPicPr>
        <p:blipFill>
          <a:blip r:embed="rId2"/>
          <a:srcRect l="24245" t="29891" r="21083" b="55340"/>
          <a:stretch/>
        </p:blipFill>
        <p:spPr>
          <a:xfrm>
            <a:off x="2217600" y="3348000"/>
            <a:ext cx="2963880" cy="8240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rcRect l="17921" t="14862" r="13179" b="70201"/>
          <a:stretch/>
        </p:blipFill>
        <p:spPr>
          <a:xfrm>
            <a:off x="1874880" y="2324160"/>
            <a:ext cx="3735360" cy="8334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4"/>
          <a:srcRect l="0" t="45093" r="0" b="40138"/>
          <a:stretch/>
        </p:blipFill>
        <p:spPr>
          <a:xfrm>
            <a:off x="903240" y="4491000"/>
            <a:ext cx="5421240" cy="824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Mixtur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219720" y="2895480"/>
            <a:ext cx="2286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393920" y="3505320"/>
            <a:ext cx="7648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5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419120" y="4495680"/>
            <a:ext cx="7648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each si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rcRect l="0" t="68538" r="28621" b="24092"/>
          <a:stretch/>
        </p:blipFill>
        <p:spPr>
          <a:xfrm>
            <a:off x="1027080" y="2959200"/>
            <a:ext cx="3692520" cy="3920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2"/>
          <a:srcRect l="0" t="85403" r="48140" b="0"/>
          <a:stretch/>
        </p:blipFill>
        <p:spPr>
          <a:xfrm>
            <a:off x="901800" y="4343400"/>
            <a:ext cx="2811240" cy="81432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3"/>
          <a:srcRect l="0" t="76005" r="36024" b="15378"/>
          <a:stretch/>
        </p:blipFill>
        <p:spPr>
          <a:xfrm>
            <a:off x="979560" y="3619440"/>
            <a:ext cx="3363840" cy="466920"/>
          </a:xfrm>
          <a:prstGeom prst="rect">
            <a:avLst/>
          </a:prstGeom>
          <a:ln w="0">
            <a:noFill/>
          </a:ln>
        </p:spPr>
      </p:pic>
      <p:grpSp>
        <p:nvGrpSpPr>
          <p:cNvPr id="712" name=""/>
          <p:cNvGrpSpPr/>
          <p:nvPr/>
        </p:nvGrpSpPr>
        <p:grpSpPr>
          <a:xfrm>
            <a:off x="685800" y="5219640"/>
            <a:ext cx="7753320" cy="972720"/>
            <a:chOff x="685800" y="5219640"/>
            <a:chExt cx="7753320" cy="972720"/>
          </a:xfrm>
        </p:grpSpPr>
        <p:pic>
          <p:nvPicPr>
            <p:cNvPr id="713" name="" descr=""/>
            <p:cNvPicPr/>
            <p:nvPr/>
          </p:nvPicPr>
          <p:blipFill>
            <a:blip r:embed="rId4"/>
            <a:srcRect l="22020" t="78015" r="53027" b="0"/>
            <a:stretch/>
          </p:blipFill>
          <p:spPr>
            <a:xfrm>
              <a:off x="5143680" y="5219640"/>
              <a:ext cx="7664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685800" y="5440320"/>
              <a:ext cx="77533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2880" indent="-136836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Answer:</a:t>
              </a:r>
              <a:r>
                <a:rPr b="0" lang="en-US" sz="2400" spc="-1" strike="noStrike">
                  <a:solidFill>
                    <a:srgbClr val="e01b2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e01b22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e01b22"/>
                  </a:solidFill>
                  <a:latin typeface="Arial"/>
                </a:rPr>
                <a:t>Aaron needs to add        ounces of 80% brine solu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1419120" y="2262240"/>
            <a:ext cx="7648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5"/>
          <a:srcRect l="0" t="59648" r="16185" b="32092"/>
          <a:stretch/>
        </p:blipFill>
        <p:spPr>
          <a:xfrm>
            <a:off x="990720" y="2209680"/>
            <a:ext cx="4414680" cy="44784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6261120" y="1360440"/>
            <a:ext cx="2425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common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6"/>
          <a:stretch/>
        </p:blipFill>
        <p:spPr>
          <a:xfrm>
            <a:off x="853920" y="1282680"/>
            <a:ext cx="5384880" cy="80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Mixtur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76240" y="4265640"/>
            <a:ext cx="7648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914400" y="1295280"/>
            <a:ext cx="7648560" cy="958320"/>
            <a:chOff x="914400" y="1295280"/>
            <a:chExt cx="7648560" cy="958320"/>
          </a:xfrm>
        </p:grpSpPr>
        <p:sp>
          <p:nvSpPr>
            <p:cNvPr id="723" name=""/>
            <p:cNvSpPr/>
            <p:nvPr/>
          </p:nvSpPr>
          <p:spPr>
            <a:xfrm>
              <a:off x="914400" y="1501560"/>
              <a:ext cx="76485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52578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Chec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qu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4" name="" descr=""/>
            <p:cNvPicPr/>
            <p:nvPr/>
          </p:nvPicPr>
          <p:blipFill>
            <a:blip r:embed="rId1"/>
            <a:srcRect l="0" t="0" r="0" b="78515"/>
            <a:stretch/>
          </p:blipFill>
          <p:spPr>
            <a:xfrm>
              <a:off x="2224080" y="1295280"/>
              <a:ext cx="3071880" cy="81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5" name="" descr=""/>
          <p:cNvPicPr/>
          <p:nvPr/>
        </p:nvPicPr>
        <p:blipFill>
          <a:blip r:embed="rId2"/>
          <a:srcRect l="9300" t="55184" r="44346" b="22077"/>
          <a:stretch/>
        </p:blipFill>
        <p:spPr>
          <a:xfrm>
            <a:off x="6110280" y="2685960"/>
            <a:ext cx="1424160" cy="863640"/>
          </a:xfrm>
          <a:prstGeom prst="rect">
            <a:avLst/>
          </a:prstGeom>
          <a:ln w="0">
            <a:noFill/>
          </a:ln>
        </p:spPr>
      </p:pic>
      <p:grpSp>
        <p:nvGrpSpPr>
          <p:cNvPr id="726" name=""/>
          <p:cNvGrpSpPr/>
          <p:nvPr/>
        </p:nvGrpSpPr>
        <p:grpSpPr>
          <a:xfrm>
            <a:off x="2187720" y="2254320"/>
            <a:ext cx="3765240" cy="1776240"/>
            <a:chOff x="2187720" y="2254320"/>
            <a:chExt cx="3765240" cy="1776240"/>
          </a:xfrm>
        </p:grpSpPr>
        <p:pic>
          <p:nvPicPr>
            <p:cNvPr id="727" name="" descr=""/>
            <p:cNvPicPr/>
            <p:nvPr/>
          </p:nvPicPr>
          <p:blipFill>
            <a:blip r:embed="rId3"/>
            <a:srcRect l="0" t="14151" r="0" b="53669"/>
            <a:stretch/>
          </p:blipFill>
          <p:spPr>
            <a:xfrm>
              <a:off x="2187720" y="2254320"/>
              <a:ext cx="3765240" cy="17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2773080" y="282420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2209680" y="4038480"/>
            <a:ext cx="2386080" cy="844560"/>
            <a:chOff x="2209680" y="4038480"/>
            <a:chExt cx="2386080" cy="844560"/>
          </a:xfrm>
        </p:grpSpPr>
        <p:pic>
          <p:nvPicPr>
            <p:cNvPr id="730" name="" descr=""/>
            <p:cNvPicPr/>
            <p:nvPr/>
          </p:nvPicPr>
          <p:blipFill>
            <a:blip r:embed="rId4"/>
            <a:srcRect l="0" t="21824" r="22326" b="55938"/>
            <a:stretch/>
          </p:blipFill>
          <p:spPr>
            <a:xfrm>
              <a:off x="2209680" y="4038480"/>
              <a:ext cx="238608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2796840" y="411624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286000" y="4952880"/>
            <a:ext cx="5791320" cy="504000"/>
            <a:chOff x="2286000" y="4952880"/>
            <a:chExt cx="5791320" cy="504000"/>
          </a:xfrm>
        </p:grpSpPr>
        <p:sp>
          <p:nvSpPr>
            <p:cNvPr id="733" name=""/>
            <p:cNvSpPr/>
            <p:nvPr/>
          </p:nvSpPr>
          <p:spPr>
            <a:xfrm>
              <a:off x="3533760" y="5033880"/>
              <a:ext cx="433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01b22"/>
                  </a:solidFill>
                  <a:latin typeface="Wingdings"/>
                  <a:ea typeface="Wingdings"/>
                </a:rPr>
                <a:t>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"/>
            <p:cNvGrpSpPr/>
            <p:nvPr/>
          </p:nvGrpSpPr>
          <p:grpSpPr>
            <a:xfrm>
              <a:off x="2286000" y="4952880"/>
              <a:ext cx="5791320" cy="497880"/>
              <a:chOff x="2286000" y="4952880"/>
              <a:chExt cx="5791320" cy="497880"/>
            </a:xfrm>
          </p:grpSpPr>
          <p:sp>
            <p:nvSpPr>
              <p:cNvPr id="735" name=""/>
              <p:cNvSpPr/>
              <p:nvPr/>
            </p:nvSpPr>
            <p:spPr>
              <a:xfrm>
                <a:off x="2286000" y="499104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5 = 0.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172200" y="495288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implify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TPAnswers"/>
          <p:cNvSpPr/>
          <p:nvPr/>
        </p:nvSpPr>
        <p:spPr>
          <a:xfrm>
            <a:off x="857160" y="306072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9.6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0.4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1.8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2.3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PQuestion"/>
          <p:cNvSpPr/>
          <p:nvPr/>
        </p:nvSpPr>
        <p:spPr>
          <a:xfrm>
            <a:off x="476280" y="1514520"/>
            <a:ext cx="8020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BR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Janna adds a 65% base solution to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13 ounces of solution that is 20% base. How much of the solution should be added to create a solution that is 40% 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57160" y="397512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3"/>
          <a:stretch/>
        </p:blipFill>
        <p:spPr>
          <a:xfrm>
            <a:off x="426708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5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Distanc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76240" y="1514520"/>
            <a:ext cx="75708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e01b22"/>
                </a:solidFill>
                <a:latin typeface="Arial"/>
              </a:rPr>
              <a:t>SWIMMING</a:t>
            </a:r>
            <a:r>
              <a:rPr b="1" lang="en-US" sz="2300" spc="-1" strike="noStrike">
                <a:solidFill>
                  <a:srgbClr val="ffeb55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539d"/>
                </a:solidFill>
                <a:latin typeface="Arial"/>
              </a:rPr>
              <a:t>Lilia swims for 5 hours in a stream that has a current of 1 mile per hour. She leaves her dock and swims upstream for 2 miles and then back to her dock. What is her swimming speed in still water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76240" y="2914560"/>
            <a:ext cx="788688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539d"/>
                </a:solidFill>
                <a:latin typeface="Arial"/>
              </a:rPr>
              <a:t>Understan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e are given the speed of the current,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distance she swims upstream, and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total tim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885960" y="3892680"/>
            <a:ext cx="7848360" cy="2106360"/>
            <a:chOff x="885960" y="3892680"/>
            <a:chExt cx="7848360" cy="2106360"/>
          </a:xfrm>
        </p:grpSpPr>
        <p:pic>
          <p:nvPicPr>
            <p:cNvPr id="751" name="" descr=""/>
            <p:cNvPicPr/>
            <p:nvPr/>
          </p:nvPicPr>
          <p:blipFill>
            <a:blip r:embed="rId1"/>
            <a:stretch/>
          </p:blipFill>
          <p:spPr>
            <a:xfrm>
              <a:off x="7493040" y="5202360"/>
              <a:ext cx="82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885960" y="3892680"/>
              <a:ext cx="7848360" cy="19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575"/>
                </a:spcBef>
                <a:spcAft>
                  <a:spcPts val="575"/>
                </a:spcAft>
                <a:tabLst>
                  <a:tab algn="l" pos="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539d"/>
                  </a:solidFill>
                  <a:latin typeface="Arial"/>
                </a:rPr>
                <a:t>Plan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he swam 2 miles upstream against the</a:t>
              </a:r>
              <a:br>
                <a:rPr sz="2300"/>
              </a:b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current and 2 miles back to the dock with</a:t>
              </a:r>
              <a:br>
                <a:rPr sz="2300"/>
              </a:b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the current. The formula that relates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distance, time, and rate is </a:t>
              </a: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</a:rPr>
                <a:t>rt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o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533520" y="4243320"/>
            <a:ext cx="533160" cy="26532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2280"/>
          </a:xfrm>
          <a:prstGeom prst="rect">
            <a:avLst/>
          </a:prstGeom>
          <a:ln w="0">
            <a:noFill/>
          </a:ln>
        </p:spPr>
      </p:pic>
      <p:grpSp>
        <p:nvGrpSpPr>
          <p:cNvPr id="492" name=""/>
          <p:cNvGrpSpPr/>
          <p:nvPr/>
        </p:nvGrpSpPr>
        <p:grpSpPr>
          <a:xfrm>
            <a:off x="1143000" y="3124080"/>
            <a:ext cx="2790720" cy="3288960"/>
            <a:chOff x="1143000" y="3124080"/>
            <a:chExt cx="2790720" cy="3288960"/>
          </a:xfrm>
        </p:grpSpPr>
        <p:sp>
          <p:nvSpPr>
            <p:cNvPr id="493" name="TPAnswers"/>
            <p:cNvSpPr/>
            <p:nvPr/>
          </p:nvSpPr>
          <p:spPr>
            <a:xfrm>
              <a:off x="1143000" y="3287880"/>
              <a:ext cx="2790720" cy="31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251"/>
                </a:spcBef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irect;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251"/>
                </a:spcBef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joint;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251"/>
                </a:spcBef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inverse;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251"/>
                </a:spcBef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combined;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4" name="" descr=""/>
            <p:cNvPicPr/>
            <p:nvPr/>
          </p:nvPicPr>
          <p:blipFill>
            <a:blip r:embed="rId4"/>
            <a:srcRect l="871" t="68275" r="93917" b="0"/>
            <a:stretch/>
          </p:blipFill>
          <p:spPr>
            <a:xfrm>
              <a:off x="2727360" y="3124080"/>
              <a:ext cx="38088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5"/>
            <a:srcRect l="871" t="68275" r="93917" b="0"/>
            <a:stretch/>
          </p:blipFill>
          <p:spPr>
            <a:xfrm>
              <a:off x="2536920" y="3994200"/>
              <a:ext cx="38088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6" name=""/>
          <p:cNvGrpSpPr/>
          <p:nvPr/>
        </p:nvGrpSpPr>
        <p:grpSpPr>
          <a:xfrm>
            <a:off x="1143000" y="1434960"/>
            <a:ext cx="7086600" cy="1437120"/>
            <a:chOff x="1143000" y="1434960"/>
            <a:chExt cx="7086600" cy="1437120"/>
          </a:xfrm>
        </p:grpSpPr>
        <p:pic>
          <p:nvPicPr>
            <p:cNvPr id="497" name="" descr=""/>
            <p:cNvPicPr/>
            <p:nvPr/>
          </p:nvPicPr>
          <p:blipFill>
            <a:blip r:embed="rId6"/>
            <a:srcRect l="29217" t="0" r="55168" b="68275"/>
            <a:stretch/>
          </p:blipFill>
          <p:spPr>
            <a:xfrm>
              <a:off x="3238560" y="1434960"/>
              <a:ext cx="1096920" cy="8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143000" y="1638360"/>
              <a:ext cx="7086600" cy="12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State whether              represents a </a:t>
              </a:r>
              <a:r>
                <a:rPr b="1" i="1" lang="en-US" sz="2400" spc="-1" strike="noStrike">
                  <a:solidFill>
                    <a:srgbClr val="00539d"/>
                  </a:solidFill>
                  <a:latin typeface="Arial"/>
                </a:rPr>
                <a:t>direct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,</a:t>
              </a:r>
              <a:r>
                <a:rPr b="1" i="1" lang="en-US" sz="2400" spc="-1" strike="noStrike">
                  <a:solidFill>
                    <a:srgbClr val="00539d"/>
                  </a:solidFill>
                  <a:latin typeface="Arial"/>
                </a:rPr>
                <a:t> joint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539d"/>
                  </a:solidFill>
                  <a:latin typeface="Arial"/>
                </a:rPr>
                <a:t>inverse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, or</a:t>
              </a:r>
              <a:r>
                <a:rPr b="1" i="1" lang="en-US" sz="2400" spc="-1" strike="noStrike">
                  <a:solidFill>
                    <a:srgbClr val="00539d"/>
                  </a:solidFill>
                  <a:latin typeface="Arial"/>
                </a:rPr>
                <a:t> combined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 variation. Then name the constant of varia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Distanc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3520" y="4694400"/>
            <a:ext cx="144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2514600" y="5267160"/>
            <a:ext cx="6354720" cy="780840"/>
            <a:chOff x="2514600" y="5267160"/>
            <a:chExt cx="6354720" cy="780840"/>
          </a:xfrm>
        </p:grpSpPr>
        <p:sp>
          <p:nvSpPr>
            <p:cNvPr id="757" name=""/>
            <p:cNvSpPr/>
            <p:nvPr/>
          </p:nvSpPr>
          <p:spPr>
            <a:xfrm>
              <a:off x="5867280" y="5419440"/>
              <a:ext cx="300204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iginal equ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8" name="" descr=""/>
            <p:cNvPicPr/>
            <p:nvPr/>
          </p:nvPicPr>
          <p:blipFill>
            <a:blip r:embed="rId1"/>
            <a:stretch/>
          </p:blipFill>
          <p:spPr>
            <a:xfrm>
              <a:off x="2514600" y="5267160"/>
              <a:ext cx="2016000" cy="78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9" name=""/>
          <p:cNvGrpSpPr/>
          <p:nvPr/>
        </p:nvGrpSpPr>
        <p:grpSpPr>
          <a:xfrm>
            <a:off x="1219320" y="2701800"/>
            <a:ext cx="7019280" cy="1987560"/>
            <a:chOff x="1219320" y="2701800"/>
            <a:chExt cx="7019280" cy="1987560"/>
          </a:xfrm>
        </p:grpSpPr>
        <p:grpSp>
          <p:nvGrpSpPr>
            <p:cNvPr id="760" name=""/>
            <p:cNvGrpSpPr/>
            <p:nvPr/>
          </p:nvGrpSpPr>
          <p:grpSpPr>
            <a:xfrm>
              <a:off x="1220040" y="2701800"/>
              <a:ext cx="6949440" cy="642600"/>
              <a:chOff x="1220040" y="2701800"/>
              <a:chExt cx="6949440" cy="642600"/>
            </a:xfrm>
          </p:grpSpPr>
          <p:sp>
            <p:nvSpPr>
              <p:cNvPr id="761" name=""/>
              <p:cNvSpPr/>
              <p:nvPr/>
            </p:nvSpPr>
            <p:spPr>
              <a:xfrm>
                <a:off x="1220040" y="2701800"/>
                <a:ext cx="196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ime going with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he curr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300120" y="2701800"/>
                <a:ext cx="648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lu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24080" y="2701800"/>
                <a:ext cx="2245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ime going against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he curr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444360" y="2701800"/>
                <a:ext cx="932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qual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438680" y="2701800"/>
                <a:ext cx="73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otal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ime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6" name="" descr=""/>
            <p:cNvPicPr/>
            <p:nvPr/>
          </p:nvPicPr>
          <p:blipFill>
            <a:blip r:embed="rId2"/>
            <a:stretch/>
          </p:blipFill>
          <p:spPr>
            <a:xfrm>
              <a:off x="1887480" y="3908520"/>
              <a:ext cx="67788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" descr=""/>
            <p:cNvPicPr/>
            <p:nvPr/>
          </p:nvPicPr>
          <p:blipFill>
            <a:blip r:embed="rId3"/>
            <a:stretch/>
          </p:blipFill>
          <p:spPr>
            <a:xfrm>
              <a:off x="4873680" y="3908520"/>
              <a:ext cx="677880" cy="780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8" name=""/>
            <p:cNvGrpSpPr/>
            <p:nvPr/>
          </p:nvGrpSpPr>
          <p:grpSpPr>
            <a:xfrm>
              <a:off x="1219320" y="3336480"/>
              <a:ext cx="7019280" cy="423720"/>
              <a:chOff x="1219320" y="3336480"/>
              <a:chExt cx="7019280" cy="423720"/>
            </a:xfrm>
          </p:grpSpPr>
          <p:sp>
            <p:nvSpPr>
              <p:cNvPr id="769" name=""/>
              <p:cNvSpPr/>
              <p:nvPr/>
            </p:nvSpPr>
            <p:spPr>
              <a:xfrm rot="16200000">
                <a:off x="2000160" y="2557080"/>
                <a:ext cx="422280" cy="1983960"/>
              </a:xfrm>
              <a:custGeom>
                <a:avLst/>
                <a:gdLst>
                  <a:gd name="textAreaLeft" fmla="*/ 270000 w 422280"/>
                  <a:gd name="textAreaRight" fmla="*/ 422640 w 422280"/>
                  <a:gd name="textAreaTop" fmla="*/ 51480 h 1983960"/>
                  <a:gd name="textAreaBottom" fmla="*/ 1932480 h 198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e01b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6200000">
                <a:off x="3409560" y="3227040"/>
                <a:ext cx="422280" cy="641160"/>
              </a:xfrm>
              <a:custGeom>
                <a:avLst/>
                <a:gdLst>
                  <a:gd name="textAreaLeft" fmla="*/ 270000 w 422280"/>
                  <a:gd name="textAreaRight" fmla="*/ 422640 w 422280"/>
                  <a:gd name="textAreaTop" fmla="*/ 16560 h 641160"/>
                  <a:gd name="textAreaBottom" fmla="*/ 624600 h 641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e01b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6200000">
                <a:off x="4987440" y="2379240"/>
                <a:ext cx="422280" cy="2336400"/>
              </a:xfrm>
              <a:custGeom>
                <a:avLst/>
                <a:gdLst>
                  <a:gd name="textAreaLeft" fmla="*/ 270000 w 422280"/>
                  <a:gd name="textAreaRight" fmla="*/ 422640 w 422280"/>
                  <a:gd name="textAreaTop" fmla="*/ 60840 h 2336400"/>
                  <a:gd name="textAreaBottom" fmla="*/ 2275560 h 2336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e01b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6200000">
                <a:off x="6711480" y="3069720"/>
                <a:ext cx="422280" cy="955440"/>
              </a:xfrm>
              <a:custGeom>
                <a:avLst/>
                <a:gdLst>
                  <a:gd name="textAreaLeft" fmla="*/ 270000 w 422280"/>
                  <a:gd name="textAreaRight" fmla="*/ 422640 w 422280"/>
                  <a:gd name="textAreaTop" fmla="*/ 24840 h 955440"/>
                  <a:gd name="textAreaBottom" fmla="*/ 930600 h 95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e01b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6200000">
                <a:off x="7644960" y="3165120"/>
                <a:ext cx="422280" cy="765000"/>
              </a:xfrm>
              <a:custGeom>
                <a:avLst/>
                <a:gdLst>
                  <a:gd name="textAreaLeft" fmla="*/ 270000 w 422280"/>
                  <a:gd name="textAreaRight" fmla="*/ 422640 w 422280"/>
                  <a:gd name="textAreaTop" fmla="*/ 19800 h 765000"/>
                  <a:gd name="textAreaBottom" fmla="*/ 745200 h 76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e01b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7588080" y="4059000"/>
              <a:ext cx="5907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5" name="" descr=""/>
            <p:cNvPicPr/>
            <p:nvPr/>
          </p:nvPicPr>
          <p:blipFill>
            <a:blip r:embed="rId4"/>
            <a:srcRect l="30394" t="0" r="58904" b="0"/>
            <a:stretch/>
          </p:blipFill>
          <p:spPr>
            <a:xfrm>
              <a:off x="3506760" y="3908520"/>
              <a:ext cx="2160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5"/>
            <a:srcRect l="75043" t="0" r="12439" b="0"/>
            <a:stretch/>
          </p:blipFill>
          <p:spPr>
            <a:xfrm>
              <a:off x="6792840" y="3895560"/>
              <a:ext cx="252360" cy="78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"/>
          <p:cNvSpPr/>
          <p:nvPr/>
        </p:nvSpPr>
        <p:spPr>
          <a:xfrm>
            <a:off x="885960" y="1523880"/>
            <a:ext cx="784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qual her speed in still water.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speed with the curren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,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speed against the curren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Distanc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752400" y="2085840"/>
            <a:ext cx="7543800" cy="1187640"/>
            <a:chOff x="752400" y="2085840"/>
            <a:chExt cx="7543800" cy="1187640"/>
          </a:xfrm>
        </p:grpSpPr>
        <p:sp>
          <p:nvSpPr>
            <p:cNvPr id="781" name=""/>
            <p:cNvSpPr/>
            <p:nvPr/>
          </p:nvSpPr>
          <p:spPr>
            <a:xfrm>
              <a:off x="6175080" y="2184480"/>
              <a:ext cx="21211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vide Common  Fac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2" name="" descr=""/>
            <p:cNvPicPr/>
            <p:nvPr/>
          </p:nvPicPr>
          <p:blipFill>
            <a:blip r:embed="rId1"/>
            <a:srcRect l="0" t="23488" r="0" b="46897"/>
            <a:stretch/>
          </p:blipFill>
          <p:spPr>
            <a:xfrm>
              <a:off x="752400" y="2085840"/>
              <a:ext cx="5546520" cy="11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3" name=""/>
          <p:cNvGrpSpPr/>
          <p:nvPr/>
        </p:nvGrpSpPr>
        <p:grpSpPr>
          <a:xfrm>
            <a:off x="727200" y="3965400"/>
            <a:ext cx="8059680" cy="720720"/>
            <a:chOff x="727200" y="3965400"/>
            <a:chExt cx="8059680" cy="720720"/>
          </a:xfrm>
        </p:grpSpPr>
        <p:pic>
          <p:nvPicPr>
            <p:cNvPr id="784" name="" descr=""/>
            <p:cNvPicPr/>
            <p:nvPr/>
          </p:nvPicPr>
          <p:blipFill>
            <a:blip r:embed="rId2"/>
            <a:srcRect l="0" t="53109" r="0" b="28912"/>
            <a:stretch/>
          </p:blipFill>
          <p:spPr>
            <a:xfrm>
              <a:off x="727200" y="3965400"/>
              <a:ext cx="554688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6518520" y="4157280"/>
              <a:ext cx="226836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stribu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727200" y="4753080"/>
            <a:ext cx="8059680" cy="539640"/>
            <a:chOff x="727200" y="4753080"/>
            <a:chExt cx="8059680" cy="539640"/>
          </a:xfrm>
        </p:grpSpPr>
        <p:pic>
          <p:nvPicPr>
            <p:cNvPr id="787" name="" descr=""/>
            <p:cNvPicPr/>
            <p:nvPr/>
          </p:nvPicPr>
          <p:blipFill>
            <a:blip r:embed="rId3"/>
            <a:srcRect l="0" t="72875" r="0" b="13663"/>
            <a:stretch/>
          </p:blipFill>
          <p:spPr>
            <a:xfrm>
              <a:off x="727200" y="4753080"/>
              <a:ext cx="554688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6518520" y="4817880"/>
              <a:ext cx="226836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implify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727200" y="5438880"/>
            <a:ext cx="8059680" cy="466200"/>
            <a:chOff x="727200" y="5438880"/>
            <a:chExt cx="8059680" cy="466200"/>
          </a:xfrm>
        </p:grpSpPr>
        <p:pic>
          <p:nvPicPr>
            <p:cNvPr id="790" name="" descr=""/>
            <p:cNvPicPr/>
            <p:nvPr/>
          </p:nvPicPr>
          <p:blipFill>
            <a:blip r:embed="rId4"/>
            <a:srcRect l="0" t="89038" r="0" b="0"/>
            <a:stretch/>
          </p:blipFill>
          <p:spPr>
            <a:xfrm>
              <a:off x="727200" y="5438880"/>
              <a:ext cx="554688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"/>
            <p:cNvSpPr/>
            <p:nvPr/>
          </p:nvSpPr>
          <p:spPr>
            <a:xfrm>
              <a:off x="6518520" y="5484600"/>
              <a:ext cx="226836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btract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from each sid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1971720" y="3432240"/>
            <a:ext cx="6832080" cy="459720"/>
            <a:chOff x="1971720" y="3432240"/>
            <a:chExt cx="6832080" cy="459720"/>
          </a:xfrm>
        </p:grpSpPr>
        <p:sp>
          <p:nvSpPr>
            <p:cNvPr id="793" name=""/>
            <p:cNvSpPr/>
            <p:nvPr/>
          </p:nvSpPr>
          <p:spPr>
            <a:xfrm>
              <a:off x="1971720" y="3432240"/>
              <a:ext cx="40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r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1)2 +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1)2 = 5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529680" y="3444840"/>
              <a:ext cx="22741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implify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1616040" y="1314360"/>
            <a:ext cx="7166160" cy="941400"/>
            <a:chOff x="1616040" y="1314360"/>
            <a:chExt cx="7166160" cy="941400"/>
          </a:xfrm>
        </p:grpSpPr>
        <p:sp>
          <p:nvSpPr>
            <p:cNvPr id="796" name=""/>
            <p:cNvSpPr/>
            <p:nvPr/>
          </p:nvSpPr>
          <p:spPr>
            <a:xfrm>
              <a:off x="6515280" y="1365120"/>
              <a:ext cx="22669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ultiply each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ide by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– 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7" name="" descr=""/>
            <p:cNvPicPr/>
            <p:nvPr/>
          </p:nvPicPr>
          <p:blipFill>
            <a:blip r:embed="rId5"/>
            <a:srcRect l="15626" t="0" r="4638" b="76517"/>
            <a:stretch/>
          </p:blipFill>
          <p:spPr>
            <a:xfrm>
              <a:off x="1616040" y="1314360"/>
              <a:ext cx="4422960" cy="941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0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Distanc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876240" y="1514520"/>
            <a:ext cx="7705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the Quadratic Formula to solve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932360" y="2411280"/>
            <a:ext cx="3678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"/>
          <a:srcRect l="0" t="72913" r="0" b="0"/>
          <a:stretch/>
        </p:blipFill>
        <p:spPr>
          <a:xfrm>
            <a:off x="952560" y="4365720"/>
            <a:ext cx="3881520" cy="82692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4932360" y="3292560"/>
            <a:ext cx="3678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– 4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952880" y="4572000"/>
            <a:ext cx="3678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rcRect l="0" t="32816" r="0" b="34166"/>
          <a:stretch/>
        </p:blipFill>
        <p:spPr>
          <a:xfrm>
            <a:off x="952560" y="3141720"/>
            <a:ext cx="3881520" cy="100800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3"/>
          <a:srcRect l="0" t="0" r="0" b="69584"/>
          <a:stretch/>
        </p:blipFill>
        <p:spPr>
          <a:xfrm>
            <a:off x="952560" y="2139840"/>
            <a:ext cx="3881520" cy="928800"/>
          </a:xfrm>
          <a:prstGeom prst="rect">
            <a:avLst/>
          </a:prstGeom>
          <a:ln w="0">
            <a:noFill/>
          </a:ln>
        </p:spPr>
      </p:pic>
      <p:grpSp>
        <p:nvGrpSpPr>
          <p:cNvPr id="807" name=""/>
          <p:cNvGrpSpPr/>
          <p:nvPr/>
        </p:nvGrpSpPr>
        <p:grpSpPr>
          <a:xfrm>
            <a:off x="955800" y="5394240"/>
            <a:ext cx="7502400" cy="854280"/>
            <a:chOff x="955800" y="5394240"/>
            <a:chExt cx="7502400" cy="854280"/>
          </a:xfrm>
        </p:grpSpPr>
        <p:sp>
          <p:nvSpPr>
            <p:cNvPr id="808" name=""/>
            <p:cNvSpPr/>
            <p:nvPr/>
          </p:nvSpPr>
          <p:spPr>
            <a:xfrm>
              <a:off x="5276880" y="5656320"/>
              <a:ext cx="31813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implify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" descr=""/>
            <p:cNvPicPr/>
            <p:nvPr/>
          </p:nvPicPr>
          <p:blipFill>
            <a:blip r:embed="rId4"/>
            <a:stretch/>
          </p:blipFill>
          <p:spPr>
            <a:xfrm>
              <a:off x="955800" y="5394240"/>
              <a:ext cx="3403440" cy="854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Distanc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46120" y="1981080"/>
            <a:ext cx="822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Since speed must be positive, the answer is about 1.5 miles per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851040" y="2895480"/>
            <a:ext cx="7912080" cy="781200"/>
            <a:chOff x="851040" y="2895480"/>
            <a:chExt cx="7912080" cy="781200"/>
          </a:xfrm>
        </p:grpSpPr>
        <p:sp>
          <p:nvSpPr>
            <p:cNvPr id="814" name=""/>
            <p:cNvSpPr/>
            <p:nvPr/>
          </p:nvSpPr>
          <p:spPr>
            <a:xfrm>
              <a:off x="851040" y="2971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Che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257800" y="2971800"/>
              <a:ext cx="35053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iginal equ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6" name="" descr=""/>
            <p:cNvPicPr/>
            <p:nvPr/>
          </p:nvPicPr>
          <p:blipFill>
            <a:blip r:embed="rId1"/>
            <a:stretch/>
          </p:blipFill>
          <p:spPr>
            <a:xfrm>
              <a:off x="2286000" y="2895480"/>
              <a:ext cx="2016000" cy="78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7" name=""/>
          <p:cNvGrpSpPr/>
          <p:nvPr/>
        </p:nvGrpSpPr>
        <p:grpSpPr>
          <a:xfrm>
            <a:off x="1905120" y="1407960"/>
            <a:ext cx="5603760" cy="423000"/>
            <a:chOff x="1905120" y="1407960"/>
            <a:chExt cx="5603760" cy="423000"/>
          </a:xfrm>
        </p:grpSpPr>
        <p:sp>
          <p:nvSpPr>
            <p:cNvPr id="818" name=""/>
            <p:cNvSpPr/>
            <p:nvPr/>
          </p:nvSpPr>
          <p:spPr>
            <a:xfrm>
              <a:off x="1905120" y="1407960"/>
              <a:ext cx="2666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r" pos="514440"/>
                  <a:tab algn="l" pos="571680"/>
                  <a:tab algn="l" pos="4743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≈ 1.5 or –0.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59080" y="1407960"/>
              <a:ext cx="2449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a calculat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727280" y="3809880"/>
            <a:ext cx="5283000" cy="838440"/>
            <a:chOff x="1727280" y="3809880"/>
            <a:chExt cx="5283000" cy="838440"/>
          </a:xfrm>
        </p:grpSpPr>
        <p:grpSp>
          <p:nvGrpSpPr>
            <p:cNvPr id="821" name=""/>
            <p:cNvGrpSpPr/>
            <p:nvPr/>
          </p:nvGrpSpPr>
          <p:grpSpPr>
            <a:xfrm>
              <a:off x="1727280" y="3809880"/>
              <a:ext cx="5283000" cy="838440"/>
              <a:chOff x="1727280" y="3809880"/>
              <a:chExt cx="5283000" cy="838440"/>
            </a:xfrm>
          </p:grpSpPr>
          <p:pic>
            <p:nvPicPr>
              <p:cNvPr id="822" name="" descr=""/>
              <p:cNvPicPr/>
              <p:nvPr/>
            </p:nvPicPr>
            <p:blipFill>
              <a:blip r:embed="rId2"/>
              <a:srcRect l="0" t="0" r="0" b="59233"/>
              <a:stretch/>
            </p:blipFill>
            <p:spPr>
              <a:xfrm>
                <a:off x="1727280" y="3809880"/>
                <a:ext cx="2568600" cy="83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3" name=""/>
              <p:cNvSpPr/>
              <p:nvPr/>
            </p:nvSpPr>
            <p:spPr>
              <a:xfrm>
                <a:off x="5257800" y="3986280"/>
                <a:ext cx="175248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= 1.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3759120" y="3835440"/>
              <a:ext cx="381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3222720" y="5702400"/>
            <a:ext cx="3787560" cy="510480"/>
            <a:chOff x="3222720" y="5702400"/>
            <a:chExt cx="3787560" cy="510480"/>
          </a:xfrm>
        </p:grpSpPr>
        <p:grpSp>
          <p:nvGrpSpPr>
            <p:cNvPr id="826" name=""/>
            <p:cNvGrpSpPr/>
            <p:nvPr/>
          </p:nvGrpSpPr>
          <p:grpSpPr>
            <a:xfrm>
              <a:off x="3222720" y="5702400"/>
              <a:ext cx="3787560" cy="496800"/>
              <a:chOff x="3222720" y="5702400"/>
              <a:chExt cx="3787560" cy="496800"/>
            </a:xfrm>
          </p:grpSpPr>
          <p:pic>
            <p:nvPicPr>
              <p:cNvPr id="827" name="" descr=""/>
              <p:cNvPicPr/>
              <p:nvPr/>
            </p:nvPicPr>
            <p:blipFill>
              <a:blip r:embed="rId3"/>
              <a:srcRect l="0" t="77846" r="47470" b="-68"/>
              <a:stretch/>
            </p:blipFill>
            <p:spPr>
              <a:xfrm>
                <a:off x="3222720" y="5702400"/>
                <a:ext cx="13492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>
                <a:off x="5257800" y="5778720"/>
                <a:ext cx="175248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implify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4122720" y="5789880"/>
              <a:ext cx="433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01b22"/>
                  </a:solidFill>
                  <a:latin typeface="Wingdings"/>
                  <a:ea typeface="Wingdings"/>
                </a:rPr>
                <a:t>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2438280" y="4876920"/>
            <a:ext cx="4559040" cy="838080"/>
            <a:chOff x="2438280" y="4876920"/>
            <a:chExt cx="4559040" cy="838080"/>
          </a:xfrm>
        </p:grpSpPr>
        <p:grpSp>
          <p:nvGrpSpPr>
            <p:cNvPr id="831" name=""/>
            <p:cNvGrpSpPr/>
            <p:nvPr/>
          </p:nvGrpSpPr>
          <p:grpSpPr>
            <a:xfrm>
              <a:off x="2438280" y="4876920"/>
              <a:ext cx="4559040" cy="838080"/>
              <a:chOff x="2438280" y="4876920"/>
              <a:chExt cx="4559040" cy="838080"/>
            </a:xfrm>
          </p:grpSpPr>
          <p:pic>
            <p:nvPicPr>
              <p:cNvPr id="832" name="" descr=""/>
              <p:cNvPicPr/>
              <p:nvPr/>
            </p:nvPicPr>
            <p:blipFill>
              <a:blip r:embed="rId4"/>
              <a:srcRect l="0" t="40779" r="16935" b="18454"/>
              <a:stretch/>
            </p:blipFill>
            <p:spPr>
              <a:xfrm>
                <a:off x="2438280" y="4876920"/>
                <a:ext cx="213336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>
                <a:off x="5244840" y="5054760"/>
                <a:ext cx="175248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implify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4" name=""/>
            <p:cNvSpPr/>
            <p:nvPr/>
          </p:nvSpPr>
          <p:spPr>
            <a:xfrm>
              <a:off x="3733920" y="4919760"/>
              <a:ext cx="3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7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9" name="" descr=""/>
          <p:cNvPicPr/>
          <p:nvPr/>
        </p:nvPicPr>
        <p:blipFill>
          <a:blip r:embed="rId3"/>
          <a:stretch/>
        </p:blipFill>
        <p:spPr>
          <a:xfrm>
            <a:off x="424008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841" name="TPAnswers"/>
          <p:cNvSpPr/>
          <p:nvPr/>
        </p:nvSpPr>
        <p:spPr>
          <a:xfrm>
            <a:off x="914400" y="3443400"/>
            <a:ext cx="2790720" cy="18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out 0.6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out 2.0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out 4.6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out 6.6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PQuestion"/>
          <p:cNvSpPr/>
          <p:nvPr/>
        </p:nvSpPr>
        <p:spPr>
          <a:xfrm>
            <a:off x="533520" y="1504800"/>
            <a:ext cx="79153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SWIMMING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 Lynne swims for 1 hour in a stream that has a current of 2 miles per hour. She leaves her dock and swims upstream for 3 miles and then back to her dock. What is her swimming speed in still 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905040" y="483876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Work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47720" y="1471680"/>
            <a:ext cx="75722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MOWING LAW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Wuyi and Uima mow lawns together. Wuyi working alone could complete a particular job in 4.5 hours, and Uima could complete it alone in 3.7 hours. How long does it take to complete the job when they work together?</a:t>
            </a: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47720" y="3251160"/>
            <a:ext cx="7648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Underst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given how long it takes Wuy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Uima working alone to mow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ular lawn. We need to determ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ong it would take them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876240" y="4803840"/>
            <a:ext cx="7648560" cy="1629720"/>
            <a:chOff x="876240" y="4803840"/>
            <a:chExt cx="7648560" cy="1629720"/>
          </a:xfrm>
        </p:grpSpPr>
        <p:pic>
          <p:nvPicPr>
            <p:cNvPr id="849" name="" descr=""/>
            <p:cNvPicPr/>
            <p:nvPr/>
          </p:nvPicPr>
          <p:blipFill>
            <a:blip r:embed="rId1"/>
            <a:srcRect l="0" t="0" r="0" b="65983"/>
            <a:stretch/>
          </p:blipFill>
          <p:spPr>
            <a:xfrm>
              <a:off x="6515280" y="5272200"/>
              <a:ext cx="5857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"/>
            <p:cNvSpPr/>
            <p:nvPr/>
          </p:nvSpPr>
          <p:spPr>
            <a:xfrm>
              <a:off x="876240" y="4803840"/>
              <a:ext cx="764856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Pla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uyi can mow the lawn in 4.5 hours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 the rate of mowing is        of a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wn per hou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457200" y="5659560"/>
            <a:ext cx="2000160" cy="74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7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Work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876240" y="1362240"/>
            <a:ext cx="7648560" cy="1629720"/>
            <a:chOff x="876240" y="1362240"/>
            <a:chExt cx="7648560" cy="1629720"/>
          </a:xfrm>
        </p:grpSpPr>
        <p:pic>
          <p:nvPicPr>
            <p:cNvPr id="855" name="" descr=""/>
            <p:cNvPicPr/>
            <p:nvPr/>
          </p:nvPicPr>
          <p:blipFill>
            <a:blip r:embed="rId1"/>
            <a:srcRect l="0" t="33185" r="0" b="33185"/>
            <a:stretch/>
          </p:blipFill>
          <p:spPr>
            <a:xfrm>
              <a:off x="6505560" y="1822320"/>
              <a:ext cx="58572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876240" y="1362240"/>
              <a:ext cx="764856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ima can mow the lawn in 3.7 hours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 the rate of mowing is        of a law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r hou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876240" y="2979720"/>
            <a:ext cx="7648560" cy="820800"/>
            <a:chOff x="876240" y="2979720"/>
            <a:chExt cx="7648560" cy="820800"/>
          </a:xfrm>
        </p:grpSpPr>
        <p:pic>
          <p:nvPicPr>
            <p:cNvPr id="858" name="" descr=""/>
            <p:cNvPicPr/>
            <p:nvPr/>
          </p:nvPicPr>
          <p:blipFill>
            <a:blip r:embed="rId2"/>
            <a:srcRect l="0" t="66758" r="0" b="0"/>
            <a:stretch/>
          </p:blipFill>
          <p:spPr>
            <a:xfrm>
              <a:off x="6153120" y="2979720"/>
              <a:ext cx="58572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"/>
            <p:cNvSpPr/>
            <p:nvPr/>
          </p:nvSpPr>
          <p:spPr>
            <a:xfrm>
              <a:off x="876240" y="3038400"/>
              <a:ext cx="76485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combined rate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0" name="" descr=""/>
          <p:cNvPicPr/>
          <p:nvPr/>
        </p:nvPicPr>
        <p:blipFill>
          <a:blip r:embed="rId3"/>
          <a:stretch/>
        </p:blipFill>
        <p:spPr>
          <a:xfrm>
            <a:off x="1820880" y="4187880"/>
            <a:ext cx="5484960" cy="1388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Work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876240" y="3819600"/>
            <a:ext cx="7648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both s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876240" y="1514520"/>
            <a:ext cx="7648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876240" y="2100240"/>
            <a:ext cx="7648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rcRect l="0" t="0" r="37767" b="82503"/>
          <a:stretch/>
        </p:blipFill>
        <p:spPr>
          <a:xfrm>
            <a:off x="1865160" y="1911240"/>
            <a:ext cx="2087640" cy="822600"/>
          </a:xfrm>
          <a:prstGeom prst="rect">
            <a:avLst/>
          </a:prstGeom>
          <a:ln w="0">
            <a:noFill/>
          </a:ln>
        </p:spPr>
      </p:pic>
      <p:pic>
        <p:nvPicPr>
          <p:cNvPr id="867" name="" descr=""/>
          <p:cNvPicPr/>
          <p:nvPr/>
        </p:nvPicPr>
        <p:blipFill>
          <a:blip r:embed="rId2"/>
          <a:srcRect l="0" t="17636" r="0" b="64667"/>
          <a:stretch/>
        </p:blipFill>
        <p:spPr>
          <a:xfrm>
            <a:off x="1865160" y="2813040"/>
            <a:ext cx="3354480" cy="83196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3"/>
          <a:srcRect l="0" t="34864" r="0" b="45001"/>
          <a:stretch/>
        </p:blipFill>
        <p:spPr>
          <a:xfrm>
            <a:off x="1865160" y="3724200"/>
            <a:ext cx="3354480" cy="946080"/>
          </a:xfrm>
          <a:prstGeom prst="rect">
            <a:avLst/>
          </a:prstGeom>
          <a:ln w="0">
            <a:noFill/>
          </a:ln>
        </p:spPr>
      </p:pic>
      <p:grpSp>
        <p:nvGrpSpPr>
          <p:cNvPr id="869" name=""/>
          <p:cNvGrpSpPr/>
          <p:nvPr/>
        </p:nvGrpSpPr>
        <p:grpSpPr>
          <a:xfrm>
            <a:off x="876240" y="2790720"/>
            <a:ext cx="7648560" cy="851040"/>
            <a:chOff x="876240" y="2790720"/>
            <a:chExt cx="7648560" cy="851040"/>
          </a:xfrm>
        </p:grpSpPr>
        <p:sp>
          <p:nvSpPr>
            <p:cNvPr id="870" name=""/>
            <p:cNvSpPr/>
            <p:nvPr/>
          </p:nvSpPr>
          <p:spPr>
            <a:xfrm>
              <a:off x="876240" y="3019320"/>
              <a:ext cx="7648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8006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4"/>
            <a:srcRect l="40611" t="64463" r="0" b="17432"/>
            <a:stretch/>
          </p:blipFill>
          <p:spPr>
            <a:xfrm>
              <a:off x="6324480" y="2790720"/>
              <a:ext cx="1992600" cy="85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2" name=""/>
          <p:cNvSpPr/>
          <p:nvPr/>
        </p:nvSpPr>
        <p:spPr>
          <a:xfrm>
            <a:off x="533520" y="5375160"/>
            <a:ext cx="7915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It would take Wuyi and Uima about 2 hours to mow the lawn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863640" y="4564080"/>
            <a:ext cx="7648560" cy="795240"/>
            <a:chOff x="863640" y="4564080"/>
            <a:chExt cx="7648560" cy="795240"/>
          </a:xfrm>
        </p:grpSpPr>
        <p:sp>
          <p:nvSpPr>
            <p:cNvPr id="874" name=""/>
            <p:cNvSpPr/>
            <p:nvPr/>
          </p:nvSpPr>
          <p:spPr>
            <a:xfrm>
              <a:off x="863640" y="4753080"/>
              <a:ext cx="7648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8006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≈ 2.030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ultiply 1 b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508880" y="4564080"/>
              <a:ext cx="739800" cy="795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0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Work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76240" y="3214800"/>
            <a:ext cx="7648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76240" y="4121280"/>
            <a:ext cx="7648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76240" y="1514520"/>
            <a:ext cx="7648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467240" y="4124160"/>
            <a:ext cx="43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876240" y="2100240"/>
            <a:ext cx="7648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rcRect l="0" t="0" r="0" b="65983"/>
          <a:stretch/>
        </p:blipFill>
        <p:spPr>
          <a:xfrm>
            <a:off x="2517840" y="2057400"/>
            <a:ext cx="1901880" cy="83988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/>
          <p:cNvPicPr/>
          <p:nvPr/>
        </p:nvPicPr>
        <p:blipFill>
          <a:blip r:embed="rId2"/>
          <a:srcRect l="0" t="67145" r="0" b="0"/>
          <a:stretch/>
        </p:blipFill>
        <p:spPr>
          <a:xfrm>
            <a:off x="2517840" y="3924360"/>
            <a:ext cx="1901880" cy="811080"/>
          </a:xfrm>
          <a:prstGeom prst="rect">
            <a:avLst/>
          </a:prstGeom>
          <a:ln w="0">
            <a:noFill/>
          </a:ln>
        </p:spPr>
      </p:pic>
      <p:grpSp>
        <p:nvGrpSpPr>
          <p:cNvPr id="885" name=""/>
          <p:cNvGrpSpPr/>
          <p:nvPr/>
        </p:nvGrpSpPr>
        <p:grpSpPr>
          <a:xfrm>
            <a:off x="2514600" y="3008160"/>
            <a:ext cx="1928880" cy="835200"/>
            <a:chOff x="2514600" y="3008160"/>
            <a:chExt cx="1928880" cy="835200"/>
          </a:xfrm>
        </p:grpSpPr>
        <p:pic>
          <p:nvPicPr>
            <p:cNvPr id="886" name="" descr=""/>
            <p:cNvPicPr/>
            <p:nvPr/>
          </p:nvPicPr>
          <p:blipFill>
            <a:blip r:embed="rId3"/>
            <a:srcRect l="0" t="33960" r="27881" b="32410"/>
            <a:stretch/>
          </p:blipFill>
          <p:spPr>
            <a:xfrm>
              <a:off x="2514600" y="3013200"/>
              <a:ext cx="1371600" cy="83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" descr=""/>
            <p:cNvPicPr/>
            <p:nvPr/>
          </p:nvPicPr>
          <p:blipFill>
            <a:blip r:embed="rId4"/>
            <a:stretch/>
          </p:blipFill>
          <p:spPr>
            <a:xfrm>
              <a:off x="3886200" y="3008160"/>
              <a:ext cx="55728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>
              <a:off x="3863880" y="30798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0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1" name="TPChart"/>
          <p:cNvGraphicFramePr/>
          <p:nvPr/>
        </p:nvGraphicFramePr>
        <p:xfrm>
          <a:off x="60958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3" name="TPAnswers"/>
          <p:cNvSpPr/>
          <p:nvPr/>
        </p:nvSpPr>
        <p:spPr>
          <a:xfrm>
            <a:off x="857160" y="3470400"/>
            <a:ext cx="512460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out 2 hours and 28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out 2 hours and 36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out 2 hours and 4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out 2 hours and 56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PQuestion"/>
          <p:cNvSpPr/>
          <p:nvPr/>
        </p:nvSpPr>
        <p:spPr>
          <a:xfrm>
            <a:off x="476280" y="1514520"/>
            <a:ext cx="8020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PAIN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Adriana and Monique paint rooms together. Adriana working alone could complete a particular job in 6.4 hours, and Monique could complete it alone in 4.8 hours. How long does it take to complete the job when they work togeth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3"/>
          <a:stretch/>
        </p:blipFill>
        <p:spPr>
          <a:xfrm>
            <a:off x="426708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896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857160" y="497196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0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558720" y="3040200"/>
            <a:ext cx="533520" cy="264960"/>
          </a:xfrm>
          <a:prstGeom prst="rightArrow">
            <a:avLst>
              <a:gd name="adj1" fmla="val 50000"/>
              <a:gd name="adj2" fmla="val 50340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grpSp>
        <p:nvGrpSpPr>
          <p:cNvPr id="505" name=""/>
          <p:cNvGrpSpPr/>
          <p:nvPr/>
        </p:nvGrpSpPr>
        <p:grpSpPr>
          <a:xfrm>
            <a:off x="1066680" y="2971800"/>
            <a:ext cx="2791080" cy="3306600"/>
            <a:chOff x="1066680" y="2971800"/>
            <a:chExt cx="2791080" cy="3306600"/>
          </a:xfrm>
        </p:grpSpPr>
        <p:sp>
          <p:nvSpPr>
            <p:cNvPr id="506" name="TPAnswers"/>
            <p:cNvSpPr/>
            <p:nvPr/>
          </p:nvSpPr>
          <p:spPr>
            <a:xfrm>
              <a:off x="1066680" y="2971800"/>
              <a:ext cx="279108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irect; 7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joint; 7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inverse;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combined; 7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7" name="" descr=""/>
            <p:cNvPicPr/>
            <p:nvPr/>
          </p:nvPicPr>
          <p:blipFill>
            <a:blip r:embed="rId4"/>
            <a:srcRect l="0" t="62289" r="92549" b="0"/>
            <a:stretch/>
          </p:blipFill>
          <p:spPr>
            <a:xfrm>
              <a:off x="2819520" y="4584600"/>
              <a:ext cx="546120" cy="83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8" name=""/>
          <p:cNvSpPr/>
          <p:nvPr/>
        </p:nvSpPr>
        <p:spPr>
          <a:xfrm>
            <a:off x="1117440" y="16318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State whether 7.5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represents a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direct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joint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inverse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, or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combined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variation. Then name the constant of va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438120" y="1495440"/>
            <a:ext cx="8239320" cy="3005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a Rational In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2384280"/>
            <a:ext cx="8076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7440" indent="-131436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Step 1</a:t>
            </a: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that make the denominator equal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are excluded from the denominator. For this inequality the excluded value is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824360" y="4568760"/>
            <a:ext cx="3722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33520" y="3728880"/>
            <a:ext cx="8076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7440" indent="-131436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Step 2</a:t>
            </a: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the related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876240" y="1316160"/>
            <a:ext cx="7705800" cy="833400"/>
            <a:chOff x="876240" y="1316160"/>
            <a:chExt cx="7705800" cy="833400"/>
          </a:xfrm>
        </p:grpSpPr>
        <p:sp>
          <p:nvSpPr>
            <p:cNvPr id="906" name=""/>
            <p:cNvSpPr/>
            <p:nvPr/>
          </p:nvSpPr>
          <p:spPr>
            <a:xfrm>
              <a:off x="876240" y="1503360"/>
              <a:ext cx="770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7" name="" descr=""/>
            <p:cNvPicPr/>
            <p:nvPr/>
          </p:nvPicPr>
          <p:blipFill>
            <a:blip r:embed="rId1"/>
            <a:srcRect l="0" t="0" r="0" b="49631"/>
            <a:stretch/>
          </p:blipFill>
          <p:spPr>
            <a:xfrm>
              <a:off x="1889280" y="1316160"/>
              <a:ext cx="1836720" cy="833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8" name="" descr=""/>
          <p:cNvPicPr/>
          <p:nvPr/>
        </p:nvPicPr>
        <p:blipFill>
          <a:blip r:embed="rId2"/>
          <a:srcRect l="0" t="50838" r="0" b="0"/>
          <a:stretch/>
        </p:blipFill>
        <p:spPr>
          <a:xfrm>
            <a:off x="2303640" y="4444920"/>
            <a:ext cx="1836720" cy="81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a Rational In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194440" y="1503360"/>
            <a:ext cx="3554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y each side by 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194440" y="2595600"/>
            <a:ext cx="3554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194440" y="3557520"/>
            <a:ext cx="3554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194440" y="4603680"/>
            <a:ext cx="3554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vide each side by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rcRect l="0" t="0" r="0" b="66149"/>
          <a:stretch/>
        </p:blipFill>
        <p:spPr>
          <a:xfrm>
            <a:off x="1628640" y="1271520"/>
            <a:ext cx="2998800" cy="90324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2"/>
          <a:srcRect l="0" t="34366" r="0" b="50445"/>
          <a:stretch/>
        </p:blipFill>
        <p:spPr>
          <a:xfrm>
            <a:off x="1628640" y="2577960"/>
            <a:ext cx="3006720" cy="40824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rcRect l="0" t="50445" r="0" b="32149"/>
          <a:stretch/>
        </p:blipFill>
        <p:spPr>
          <a:xfrm>
            <a:off x="1628640" y="3535200"/>
            <a:ext cx="2998800" cy="46548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4"/>
          <a:srcRect l="0" t="69291" r="0" b="0"/>
          <a:stretch/>
        </p:blipFill>
        <p:spPr>
          <a:xfrm>
            <a:off x="1628640" y="4417920"/>
            <a:ext cx="2979720" cy="81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0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500"/>
                            </p:stCondLst>
                            <p:childTnLst>
                              <p:par>
                                <p:cTn id="1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a Rational In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876240" y="1503360"/>
            <a:ext cx="7705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4360" indent="-1314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aw vertical lines at the excluded value and at the solution to separate the number line into reg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33520" y="5084640"/>
            <a:ext cx="8076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744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est a sample value in each region to determine if the values in the region satisfy the ine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2403360" y="2935440"/>
            <a:ext cx="4319640" cy="1717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0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a Rational In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76240" y="1503360"/>
            <a:ext cx="770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4360" indent="-1314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–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5132520"/>
            <a:ext cx="8076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 is a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rcRect l="0" t="68226" r="0" b="0"/>
          <a:stretch/>
        </p:blipFill>
        <p:spPr>
          <a:xfrm>
            <a:off x="960480" y="4041720"/>
            <a:ext cx="2239920" cy="88920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3235320" y="4340160"/>
            <a:ext cx="43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2"/>
          <a:srcRect l="0" t="33434" r="0" b="31782"/>
          <a:stretch/>
        </p:blipFill>
        <p:spPr>
          <a:xfrm>
            <a:off x="960480" y="3068640"/>
            <a:ext cx="2239920" cy="97308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"/>
          <p:cNvPicPr/>
          <p:nvPr/>
        </p:nvPicPr>
        <p:blipFill>
          <a:blip r:embed="rId3"/>
          <a:srcRect l="0" t="0" r="0" b="65273"/>
          <a:stretch/>
        </p:blipFill>
        <p:spPr>
          <a:xfrm>
            <a:off x="960480" y="2133720"/>
            <a:ext cx="2239920" cy="97128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2735280" y="4184640"/>
            <a:ext cx="181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4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500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a Rational In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876240" y="1332000"/>
            <a:ext cx="7705800" cy="863640"/>
            <a:chOff x="876240" y="1332000"/>
            <a:chExt cx="7705800" cy="863640"/>
          </a:xfrm>
        </p:grpSpPr>
        <p:sp>
          <p:nvSpPr>
            <p:cNvPr id="936" name=""/>
            <p:cNvSpPr/>
            <p:nvPr/>
          </p:nvSpPr>
          <p:spPr>
            <a:xfrm>
              <a:off x="876240" y="1503360"/>
              <a:ext cx="770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s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=    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7" name="" descr=""/>
            <p:cNvPicPr/>
            <p:nvPr/>
          </p:nvPicPr>
          <p:blipFill>
            <a:blip r:embed="rId1"/>
            <a:srcRect l="16877" t="14025" r="73923" b="59024"/>
            <a:stretch/>
          </p:blipFill>
          <p:spPr>
            <a:xfrm>
              <a:off x="2124000" y="1332000"/>
              <a:ext cx="216000" cy="86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8" name="" descr=""/>
          <p:cNvPicPr/>
          <p:nvPr/>
        </p:nvPicPr>
        <p:blipFill>
          <a:blip r:embed="rId2"/>
          <a:srcRect l="0" t="46185" r="0" b="28001"/>
          <a:stretch/>
        </p:blipFill>
        <p:spPr>
          <a:xfrm>
            <a:off x="954000" y="3573360"/>
            <a:ext cx="2343240" cy="82728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3"/>
          <a:srcRect l="0" t="0" r="0" b="57188"/>
          <a:stretch/>
        </p:blipFill>
        <p:spPr>
          <a:xfrm>
            <a:off x="954000" y="2093760"/>
            <a:ext cx="23432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940" name=""/>
          <p:cNvGrpSpPr/>
          <p:nvPr/>
        </p:nvGrpSpPr>
        <p:grpSpPr>
          <a:xfrm>
            <a:off x="533520" y="5373720"/>
            <a:ext cx="8076960" cy="780840"/>
            <a:chOff x="533520" y="5373720"/>
            <a:chExt cx="8076960" cy="780840"/>
          </a:xfrm>
        </p:grpSpPr>
        <p:sp>
          <p:nvSpPr>
            <p:cNvPr id="941" name=""/>
            <p:cNvSpPr/>
            <p:nvPr/>
          </p:nvSpPr>
          <p:spPr>
            <a:xfrm>
              <a:off x="533520" y="5529240"/>
              <a:ext cx="8076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      is not a solu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2" name="" descr=""/>
            <p:cNvPicPr/>
            <p:nvPr/>
          </p:nvPicPr>
          <p:blipFill>
            <a:blip r:embed="rId4"/>
            <a:stretch/>
          </p:blipFill>
          <p:spPr>
            <a:xfrm>
              <a:off x="2050920" y="5373720"/>
              <a:ext cx="303480" cy="78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3" name=""/>
          <p:cNvGrpSpPr/>
          <p:nvPr/>
        </p:nvGrpSpPr>
        <p:grpSpPr>
          <a:xfrm>
            <a:off x="2500200" y="4581360"/>
            <a:ext cx="1160280" cy="784440"/>
            <a:chOff x="2500200" y="4581360"/>
            <a:chExt cx="1160280" cy="784440"/>
          </a:xfrm>
        </p:grpSpPr>
        <p:grpSp>
          <p:nvGrpSpPr>
            <p:cNvPr id="944" name=""/>
            <p:cNvGrpSpPr/>
            <p:nvPr/>
          </p:nvGrpSpPr>
          <p:grpSpPr>
            <a:xfrm>
              <a:off x="2500200" y="4581360"/>
              <a:ext cx="831960" cy="784440"/>
              <a:chOff x="2500200" y="4581360"/>
              <a:chExt cx="831960" cy="784440"/>
            </a:xfrm>
          </p:grpSpPr>
          <p:pic>
            <p:nvPicPr>
              <p:cNvPr id="94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0200" y="4581360"/>
                <a:ext cx="831960" cy="78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6" name=""/>
              <p:cNvSpPr/>
              <p:nvPr/>
            </p:nvSpPr>
            <p:spPr>
              <a:xfrm flipH="1">
                <a:off x="2886120" y="4797360"/>
                <a:ext cx="101520" cy="31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3270960" y="4773600"/>
              <a:ext cx="389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01b22"/>
                  </a:solidFill>
                  <a:latin typeface="Wingdings"/>
                  <a:ea typeface="Wingdings"/>
                </a:rPr>
                <a:t>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0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a Rational In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876240" y="1503360"/>
            <a:ext cx="770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911320" y="4041720"/>
            <a:ext cx="43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1"/>
          <a:srcRect l="0" t="33434" r="0" b="26620"/>
          <a:stretch/>
        </p:blipFill>
        <p:spPr>
          <a:xfrm>
            <a:off x="960480" y="2816280"/>
            <a:ext cx="1865160" cy="111744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2"/>
          <a:srcRect l="0" t="0" r="0" b="67826"/>
          <a:stretch/>
        </p:blipFill>
        <p:spPr>
          <a:xfrm>
            <a:off x="960480" y="1989000"/>
            <a:ext cx="1865160" cy="90036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3"/>
          <a:srcRect l="0" t="68226" r="0" b="0"/>
          <a:stretch/>
        </p:blipFill>
        <p:spPr>
          <a:xfrm>
            <a:off x="960480" y="3753000"/>
            <a:ext cx="1865160" cy="88884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4"/>
          <a:srcRect l="0" t="0" r="51393" b="49631"/>
          <a:stretch/>
        </p:blipFill>
        <p:spPr>
          <a:xfrm>
            <a:off x="925560" y="4595760"/>
            <a:ext cx="2787480" cy="83520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/>
          <p:cNvPicPr/>
          <p:nvPr/>
        </p:nvPicPr>
        <p:blipFill>
          <a:blip r:embed="rId5"/>
          <a:srcRect l="0" t="51435" r="0" b="0"/>
          <a:stretch/>
        </p:blipFill>
        <p:spPr>
          <a:xfrm>
            <a:off x="925560" y="5362560"/>
            <a:ext cx="5676840" cy="79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0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500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500"/>
                            </p:stCondLst>
                            <p:childTnLst>
                              <p:par>
                                <p:cTn id="1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9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1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962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963" name="TPAnswers"/>
          <p:cNvSpPr/>
          <p:nvPr/>
        </p:nvSpPr>
        <p:spPr>
          <a:xfrm>
            <a:off x="914400" y="2209680"/>
            <a:ext cx="27907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lt; 0 or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gt;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 &lt;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lt;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533520" y="1341360"/>
            <a:ext cx="8305560" cy="781200"/>
            <a:chOff x="533520" y="1341360"/>
            <a:chExt cx="8305560" cy="781200"/>
          </a:xfrm>
        </p:grpSpPr>
        <p:sp>
          <p:nvSpPr>
            <p:cNvPr id="965" name="TPQuestion"/>
            <p:cNvSpPr/>
            <p:nvPr/>
          </p:nvSpPr>
          <p:spPr>
            <a:xfrm>
              <a:off x="533520" y="1504800"/>
              <a:ext cx="8305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olve  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6" name="" descr=""/>
            <p:cNvPicPr/>
            <p:nvPr/>
          </p:nvPicPr>
          <p:blipFill>
            <a:blip r:embed="rId5"/>
            <a:stretch/>
          </p:blipFill>
          <p:spPr>
            <a:xfrm>
              <a:off x="1908000" y="1341360"/>
              <a:ext cx="1538640" cy="78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7" name=""/>
          <p:cNvSpPr/>
          <p:nvPr/>
        </p:nvSpPr>
        <p:spPr>
          <a:xfrm>
            <a:off x="914400" y="405756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500"/>
                            </p:stCondLst>
                            <p:childTnLst>
                              <p:par>
                                <p:cTn id="1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TPAnswers"/>
          <p:cNvSpPr/>
          <p:nvPr/>
        </p:nvSpPr>
        <p:spPr>
          <a:xfrm>
            <a:off x="1066680" y="281952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PQuestion"/>
          <p:cNvSpPr/>
          <p:nvPr/>
        </p:nvSpPr>
        <p:spPr>
          <a:xfrm>
            <a:off x="685800" y="1657440"/>
            <a:ext cx="8020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If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varies inversely as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8 when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12,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find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when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33520" y="3809880"/>
            <a:ext cx="533160" cy="26532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TPAnswers"/>
          <p:cNvSpPr/>
          <p:nvPr/>
        </p:nvSpPr>
        <p:spPr>
          <a:xfrm>
            <a:off x="1066680" y="279396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PQuestion"/>
          <p:cNvSpPr/>
          <p:nvPr/>
        </p:nvSpPr>
        <p:spPr>
          <a:xfrm>
            <a:off x="685800" y="1657440"/>
            <a:ext cx="8020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If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varies jointly as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z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and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y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= 45 when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10 and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z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3, find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when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2 and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z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33520" y="567864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TPAnswers"/>
          <p:cNvSpPr/>
          <p:nvPr/>
        </p:nvSpPr>
        <p:spPr>
          <a:xfrm>
            <a:off x="1066680" y="297180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87.5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57.5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25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60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PQuestion"/>
          <p:cNvSpPr/>
          <p:nvPr/>
        </p:nvSpPr>
        <p:spPr>
          <a:xfrm>
            <a:off x="685800" y="1657440"/>
            <a:ext cx="8020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A map shows the scale 1.5 inches equals 65 miles. How many miles apart are two cities if they are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7.5 inches apart on the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33520" y="491508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TPAnswers"/>
          <p:cNvSpPr/>
          <p:nvPr/>
        </p:nvSpPr>
        <p:spPr>
          <a:xfrm>
            <a:off x="1066680" y="3527280"/>
            <a:ext cx="279108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PQuestion"/>
          <p:cNvSpPr/>
          <p:nvPr/>
        </p:nvSpPr>
        <p:spPr>
          <a:xfrm>
            <a:off x="685800" y="1657440"/>
            <a:ext cx="8020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The amount of interest earned on a savings account varies jointly with time and the amount deposited. After 5 years, interest on $1000 in the savings account is $225. What is the annual interest rate (constant of variation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33520" y="590724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647640" y="1295280"/>
            <a:ext cx="3373560" cy="3114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4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/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711360" y="74304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812880" y="1828800"/>
            <a:ext cx="7619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implified rational expression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esson 9–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711360" y="304812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812880" y="405756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rational eq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12880" y="469908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rational inequa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4:31:51Z</dcterms:created>
  <dc:creator> </dc:creator>
  <dc:description/>
  <dc:language>en-US</dc:language>
  <cp:lastModifiedBy>Madeira Station</cp:lastModifiedBy>
  <dcterms:modified xsi:type="dcterms:W3CDTF">2009-03-17T20:43:48Z</dcterms:modified>
  <cp:revision>124</cp:revision>
  <dc:subject/>
  <dc:title>Glencoe Algebra 2</dc:title>
</cp:coreProperties>
</file>